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8E71-34E6-482F-A522-9BB0781AE1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BF81-9C01-43F2-B613-80025D3FD3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8690-0E63-4A05-94CF-F6BC2C7AA7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2847-D1D4-459A-9122-532428C3A3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CA1B-D9C9-4B56-B380-6078BE3B38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F742-BA9C-40B3-B8C4-949BFA3C6D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AF1C-6886-4C2D-AA9C-4C3AD89EC41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A668-B408-4395-8ACB-2C0E0E2594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A60E-4B61-466F-AEDA-15C5730602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0158-510F-4FF0-9ABB-D74BB6CCA9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EE10-E5B5-4B2D-A975-ADD05EB070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1358-A9AC-4C02-A464-29BAACC87E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5147-5B9D-4976-8A4C-E4D80E89A5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18B8-1DE1-4419-98D7-059A9513DF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AECE-2FA4-450B-A06D-D0D005603B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6BAA-3FD8-4F98-9249-A2CBBB0589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1EB34F2-15FD-4727-91F8-4C58E381CC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1B78B3F-E4FD-460E-82BE-3F28D0AD3A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08509A2-464F-4555-8B7A-6B125221B4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07C23D0-41A4-421D-8A0A-B5691C77BA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EC76EF5-011C-48F0-AD89-D313A10464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27F0671-FD29-4FD7-A7EC-E1CA3FAE71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334C106-4132-41E8-97BD-0FCF5D09A5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056C444-53A5-4584-8F42-6DCFF44CB3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7AA7C9C-7961-443B-A7D4-CE1023D411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FD6923EF-A3F6-4009-8E34-6C83BBDA88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F948799-EF91-4B86-90F8-317DB4DED9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8D21467-2931-4CFF-8617-F759B2A7C8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5183712-1025-47CC-B417-1053F13F2C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D148091-68B4-47E7-88A3-D6CD994B79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68B3172-0524-4071-B575-18EF3CFAEC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BF62D72-5B2B-4D82-BB48-7982C47D90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F210CEB-CE52-4E41-AE67-9CC89A70D4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C78A6A6-5C81-4C70-B973-F43C61B4E1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7937-987F-4963-AEF9-64F05C9010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089A-ECA7-458B-B992-D77A51031A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5687-1C4F-4D5F-8E07-38BAB695AE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B3BE-0AA2-46A8-97CA-B501AB0943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1763-1B05-433B-9A34-F50A622922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946A-29FF-4A0B-BE9F-8175340379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A6BA-0221-4C1D-BE06-89037AFDA1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650D-4730-4C8D-A6EF-BF8B67E7FA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2171E-40C8-4286-BAEE-F208626AB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2AE1-5DAE-4536-8ACB-4FB16986C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9A29D-0A80-456B-B093-5636A286E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C1A2A-127D-4ED9-BC49-FC978398F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37C8-AA79-457C-8A26-D269D75F3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EB356-F8E0-4C89-BDFD-85C5B3D9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F39B-C03A-4BA4-A444-6801C9A24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582FB-2913-4DBE-AFB9-4FB44BFC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D94EE-3CE1-4E71-B320-B7A923C1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B23B-92B8-4D6C-BAC5-D3C15BD11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C103-1755-40C2-A551-7C795AB1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7361-CA84-4988-A04C-5977B4851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2575-F8B9-4EF9-824B-1DFC1E87CA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FIRENZE, 8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Tosc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D62D-57D0-4584-B541-A371BAE8FC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D627-13AD-4158-AE7B-8FECD525AB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308B-08A0-49BB-A82F-CF7379622D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A8F6-91D9-4FAF-A319-D69B509ED3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C6E5-8C48-4B59-869D-34AE98BEBD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AD98-195C-44B1-B43E-E5C6AB24F9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CDB6-A924-4A28-979A-645CF24CDE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2575-6BBB-4EC6-B3F9-729760CC34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F54F-C57C-440B-AEC2-6E1DF8870C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B9D9-B5E0-4DFC-A608-EBF6DBB93F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8A76-E62E-4549-9FC4-953F816639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E225-7CF2-4E54-941B-93763DD333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FAC5-05F0-4847-AE66-37F1312E6C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81D0-C1DF-4C6C-889E-1490EAA8B4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F384-186B-4459-AAEA-408EB52473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DDEE-2382-4AAD-B187-189EE030ED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31C7-6A2E-4E7B-906D-9A9AA1FC18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9A44-9291-486A-B5EF-7059144039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0DA9-6680-45F9-B0EB-831F7859FE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C1AD-EC7F-4E27-B985-49D7B9A6E6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EF96-32E3-42DC-B02A-1F778012AC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27D2-082F-4BB0-B3AB-56BE53EC50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58D4-3C03-4D1C-80C3-06F7B6D1058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6-12T10:11:50Z</dcterms:modified>
  <cp:revision>212</cp:revision>
  <dc:subject/>
  <dc:title>Presentazione di PowerPoint</dc:title>
</cp:coreProperties>
</file>