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A786A6-5678-4082-809A-2A070FB8B9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0BA971-F1B0-43E4-9882-979C3A2372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993CA12-171D-4368-A775-B25A9BB300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DDA3C0-6A26-471C-B65D-6575C4EFF8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39E6D5-4448-43ED-9A23-BFC4951A5E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CC2176-B2B3-4A89-B7AD-6B8550898D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AB1DFF-D2BA-4757-8ECD-AD37493FFC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5C1B91-3109-4DF5-9941-CEF0C36205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563CAD-AB97-42F0-8C34-9D0A05DE81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59E9AC-7BF8-4823-8604-FD76D9D795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1E4E8E-973E-462A-9BD0-F062154A46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B0853E-9C66-4128-A6B4-DC3692B0B6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3C66A9-F52A-4E42-A514-BFD67FF7FD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A5CA25-307B-4C1A-A1D4-6184DD09C3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B60D8F-4C13-4441-9361-42251FC9B3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8FACD3-FA8B-4BDD-B0D4-A19463E305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CD1D71-3DB3-481E-BA22-2CD42E5041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6A7E2AC-BFEB-4ECD-AE08-B07BF741DD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DB4834-5059-41EF-B94F-1ABC9DAAD9C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D5E25C-9747-4D6F-9674-D4BCE8EA09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610FA2-6907-4DEC-8B46-ACBBE11ECF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8D7825-A9A4-4143-BD65-689302C748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E12C5E-8AFA-465F-91B1-C3557487FD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881D47-DB03-43B8-8F18-C279BA49B9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47F-B173-4594-A506-DE6FEB2D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0C5-320D-4DBE-A3BB-D6004F40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9E7-FDBD-4C80-9638-5164B74B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8C6-C090-48A4-AF87-19BB8D4A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C40-4647-4420-9BBB-E93CB8F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34D-4956-4EC8-B192-8E23E1B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BAD-F46F-472F-9F3E-867E83D7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151-1963-4E14-80EE-A68649A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852-0292-4B3D-8EF9-40189E5F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150-D964-43EB-86A7-49A5E9B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B7F-D3EF-42E0-B3F1-474CF15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B88-9D4A-4408-81C3-5A83D06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9C91-241B-408A-9A92-F1B0B92C05C4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AE8-266B-4413-9DC1-1F3177BF894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C24-EC6D-4CCC-B4BB-C4350D10A6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476280"/>
            <a:ext cx="8288280" cy="504036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780000" y="263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e indagin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743280" y="1020600"/>
            <a:ext cx="37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9°Censimento dell’industria e dei 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e Censimento delle Istituzioni non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heck-up dell’Emilia Rom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lla luce dei dati censu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780000" y="4292640"/>
            <a:ext cx="467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urier New"/>
              </a:rPr>
              <a:t>Roberta Piergiovanni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ourier New"/>
              </a:rPr>
              <a:t>Ufficio territoriale per l’Emilia-Romagna e Mar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urier New"/>
              </a:rPr>
              <a:t>I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E4B-9BA9-41E5-A680-E142E4823C8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505320" y="294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dagine di valutazione del 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082D-5175-4F0B-AEC8-96AC3B2C574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468360" y="260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’indagine di valutazione IValC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95280" y="981000"/>
            <a:ext cx="8280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eriod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5-21 febbraio 20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Rete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edi territoriali Ist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Unità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UP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Metodologi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questionario di auto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omministrato con modalità CAW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Oggett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oddisfazione delle operazioni censuarie, dell’organizzazione, della formazione e assistenza ricevuta, delle innovazioni introdotte; efficacia dei questionari di rilevazione e dei materiali di supporto; adeguatezza di SGR; interesse e futuro coinvolgimento dell’Ente nei confronti del C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Tasso di rispost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533-2B82-46CF-8408-F36B0C20EA4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8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505480" cy="45802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755640" y="333360"/>
            <a:ext cx="7993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mappa degli UPC per carico di unità di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6"/>
          <p:cNvSpPr/>
          <p:nvPr/>
        </p:nvSpPr>
        <p:spPr>
          <a:xfrm>
            <a:off x="5940360" y="285264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L’Emilia-Romagna appartiene al secondo terzile (5.380-7.0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6"/>
          <p:cNvSpPr/>
          <p:nvPr/>
        </p:nvSpPr>
        <p:spPr>
          <a:xfrm>
            <a:off x="5940360" y="378936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Gli UPC del terzile medio hanno manifestato in generale una soddisfazione maggi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6"/>
          <p:cNvSpPr/>
          <p:nvPr/>
        </p:nvSpPr>
        <p:spPr>
          <a:xfrm>
            <a:off x="5940360" y="1125360"/>
            <a:ext cx="2664000" cy="11595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istribuzione in terzili per unità di rilevazione  complessive (imprese e non profi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1F5D-B871-4D1C-90B5-6CFF74AF437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08000" y="1733400"/>
            <a:ext cx="4753080" cy="3495960"/>
          </a:xfrm>
          <a:prstGeom prst="rect">
            <a:avLst/>
          </a:prstGeom>
          <a:ln w="0">
            <a:noFill/>
          </a:ln>
        </p:spPr>
      </p:pic>
      <p:sp>
        <p:nvSpPr>
          <p:cNvPr id="21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14" name="CasellaDiTesto 10"/>
          <p:cNvSpPr/>
          <p:nvPr/>
        </p:nvSpPr>
        <p:spPr>
          <a:xfrm>
            <a:off x="179280" y="5157720"/>
            <a:ext cx="871236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 tutte le aree territoriali prese a riferimento, il grado di soddisfazione per la rilevazione sulle imprese è mediamente maggiore rispetto a quello del censimento del non profit; inoltre, i giudizi per l’Emilia-Romagna sono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più favorevoli rispetto a quelli medi della ripartizione di appartenenza e dell’Ital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complesso.  Inoltre,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il grado di soddisfazione degli operatori degli UPC è superiore al dato nazion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riferimento ai coordinator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rilevazioni e pers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11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le rilevazioni: imprese e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859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il personale impe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0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43923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786-E3BD-48A4-8B5B-D6F37473423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24" name="CasellaDiTesto 11"/>
          <p:cNvSpPr/>
          <p:nvPr/>
        </p:nvSpPr>
        <p:spPr>
          <a:xfrm>
            <a:off x="73080" y="5157720"/>
            <a:ext cx="903600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iudizio sul grado di adeguatezza degli UPC sugli aspetti organizzativi conferma per l’Emilia-Romagna valutazioni sostanzialmente favorevoli, facendo registrare un giudizio pari a 5,1 per l’organizzazione generale che, tuttavia, è inferiore sia alla media della ripartizione (5,3) sia a quella nazionale (5,3). Tra gli aspetti organizzativi giudicati più favorevolmente emergono la numerosità dei coordinatori (6,0) e l’organizzazione dello sportello di accettazione (5,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2"/>
          <a:stretch/>
        </p:blipFill>
        <p:spPr>
          <a:xfrm>
            <a:off x="0" y="549360"/>
            <a:ext cx="8943840" cy="465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petti organizz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e 9"/>
          <p:cNvSpPr/>
          <p:nvPr/>
        </p:nvSpPr>
        <p:spPr>
          <a:xfrm>
            <a:off x="226836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e 9"/>
          <p:cNvSpPr/>
          <p:nvPr/>
        </p:nvSpPr>
        <p:spPr>
          <a:xfrm>
            <a:off x="2268360" y="4724280"/>
            <a:ext cx="287640" cy="2872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e 9"/>
          <p:cNvSpPr/>
          <p:nvPr/>
        </p:nvSpPr>
        <p:spPr>
          <a:xfrm>
            <a:off x="2268360" y="386064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e 9"/>
          <p:cNvSpPr/>
          <p:nvPr/>
        </p:nvSpPr>
        <p:spPr>
          <a:xfrm>
            <a:off x="464328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e 9"/>
          <p:cNvSpPr/>
          <p:nvPr/>
        </p:nvSpPr>
        <p:spPr>
          <a:xfrm>
            <a:off x="5580000" y="1989000"/>
            <a:ext cx="28728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198900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386064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4653000"/>
            <a:ext cx="8893080" cy="28728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15A-9D6D-404F-BB1A-EF29998B650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11"/>
          <p:cNvSpPr/>
          <p:nvPr/>
        </p:nvSpPr>
        <p:spPr>
          <a:xfrm>
            <a:off x="108000" y="5084640"/>
            <a:ext cx="885672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rado di soddisfazione degli UPC nei confronti della formazione ricevuta riflette una valutazione abbastanza positiva per l’Emilia-Romagna, pari a 4,3, in linea al giudizio medio della ripartizione Nord (4,3) e inferiore a quello mediamente espresso su base nazionale (4,6). Tra le aree della formazione, raccoglie i consensi più favorevoli quella relativa alle istruzioni sulle modalità di compilazione dei questionari impre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158760" y="549360"/>
            <a:ext cx="8877240" cy="4476600"/>
          </a:xfrm>
          <a:prstGeom prst="rect">
            <a:avLst/>
          </a:prstGeom>
          <a:ln w="0">
            <a:noFill/>
          </a:ln>
        </p:spPr>
      </p:pic>
      <p:sp>
        <p:nvSpPr>
          <p:cNvPr id="242" name="Ovale 9"/>
          <p:cNvSpPr/>
          <p:nvPr/>
        </p:nvSpPr>
        <p:spPr>
          <a:xfrm>
            <a:off x="255600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e 9"/>
          <p:cNvSpPr/>
          <p:nvPr/>
        </p:nvSpPr>
        <p:spPr>
          <a:xfrm>
            <a:off x="2556000" y="386064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e 9"/>
          <p:cNvSpPr/>
          <p:nvPr/>
        </p:nvSpPr>
        <p:spPr>
          <a:xfrm>
            <a:off x="2627280" y="465300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e 9"/>
          <p:cNvSpPr/>
          <p:nvPr/>
        </p:nvSpPr>
        <p:spPr>
          <a:xfrm>
            <a:off x="514836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B8B-E170-4D90-B27D-0BABE6D286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067440" cy="4800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53" name="CasellaDiTesto 8"/>
          <p:cNvSpPr/>
          <p:nvPr/>
        </p:nvSpPr>
        <p:spPr>
          <a:xfrm>
            <a:off x="250920" y="5373720"/>
            <a:ext cx="83516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a media nazionale con l’eccezione della tempestività dell’URC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sistenza ricev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EA64-7632-4C22-9C5C-70CF40F4CB3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0" y="333360"/>
            <a:ext cx="8886960" cy="5133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4"/>
          <p:cNvSpPr/>
          <p:nvPr/>
        </p:nvSpPr>
        <p:spPr>
          <a:xfrm>
            <a:off x="468360" y="11592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innov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11"/>
          <p:cNvSpPr/>
          <p:nvPr/>
        </p:nvSpPr>
        <p:spPr>
          <a:xfrm>
            <a:off x="108000" y="5445000"/>
            <a:ext cx="871380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rticolare apprezzamento per la presenza di rilevatori esterni, per contro rispetto alla media nazionale meno apprezzato è stato l’utilizzo delle liste precensuar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9"/>
          <p:cNvSpPr/>
          <p:nvPr/>
        </p:nvSpPr>
        <p:spPr>
          <a:xfrm>
            <a:off x="687708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e 9"/>
          <p:cNvSpPr/>
          <p:nvPr/>
        </p:nvSpPr>
        <p:spPr>
          <a:xfrm>
            <a:off x="313200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46A-9C1D-4985-83CA-91109BCC0B9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7"/>
          <p:cNvGraphicFramePr/>
          <p:nvPr/>
        </p:nvGraphicFramePr>
        <p:xfrm>
          <a:off x="0" y="260280"/>
          <a:ext cx="500364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50036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4487760" y="189000"/>
          <a:ext cx="4656240" cy="515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7760" y="189000"/>
                    <a:ext cx="46562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magine 15" descr="logo_censimento_istat_payoff.jpg"/>
          <p:cNvPicPr/>
          <p:nvPr/>
        </p:nvPicPr>
        <p:blipFill>
          <a:blip r:embed="rId5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9"/>
          <p:cNvSpPr/>
          <p:nvPr/>
        </p:nvSpPr>
        <p:spPr>
          <a:xfrm>
            <a:off x="395280" y="5229360"/>
            <a:ext cx="849636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’apprezzamento per l’utilizzo delle diverse innovazioni è sempre inferiore al valore medio nazio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n Emilia-Romagna l’innovazione maggiormente apprezzata è stata la restituzione multica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95280" y="189000"/>
            <a:ext cx="82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00"/>
                </a:solidFill>
                <a:latin typeface="Arial"/>
              </a:rPr>
              <a:t>Principali risultati – IValCens: </a:t>
            </a: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grado di utilità delle inno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39640" y="407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859280" y="40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95AB-DB19-4C2E-8661-34FDD585A12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2"/>
          <p:cNvGraphicFramePr/>
          <p:nvPr/>
        </p:nvGraphicFramePr>
        <p:xfrm>
          <a:off x="4392720" y="1268280"/>
          <a:ext cx="475128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1268280"/>
                    <a:ext cx="475128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Immagine 15" descr="logo_censimento_istat_payoff.jpg"/>
          <p:cNvPicPr/>
          <p:nvPr/>
        </p:nvPicPr>
        <p:blipFill>
          <a:blip r:embed="rId3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85" name="CasellaDiTesto 9"/>
          <p:cNvSpPr/>
          <p:nvPr/>
        </p:nvSpPr>
        <p:spPr>
          <a:xfrm>
            <a:off x="395280" y="5229360"/>
            <a:ext cx="835344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Valutazioni generalmente in linea con le medie nazionali, con l’eccezione di una maggiore chiarezza per gli aspetti del mercato per la rilevazione delle impre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contenuti informativi del questio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4"/>
          <p:cNvGraphicFramePr/>
          <p:nvPr/>
        </p:nvGraphicFramePr>
        <p:xfrm>
          <a:off x="0" y="981000"/>
          <a:ext cx="4705200" cy="3621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981000"/>
                    <a:ext cx="470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15"/>
          <p:cNvSpPr/>
          <p:nvPr/>
        </p:nvSpPr>
        <p:spPr>
          <a:xfrm>
            <a:off x="1547640" y="4724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651640" y="472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6C7-C796-4CE0-94DF-A6A8EBCC29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11280" y="54936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Somm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332000" y="1484280"/>
            <a:ext cx="66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rocesso di rilevazione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rganizzazione della rete di rilevaz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novazioni di metodo e tecni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pedizion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stituzione dei questionari compil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Indagine di valutazione del processo di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ntesi dei risult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187280" y="981000"/>
            <a:ext cx="6121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Censimento imprese e istituzioni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5E8-4770-4274-959F-2235532806E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734080" cy="4591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97" name="CasellaDiTesto 11"/>
          <p:cNvSpPr/>
          <p:nvPr/>
        </p:nvSpPr>
        <p:spPr>
          <a:xfrm>
            <a:off x="179280" y="5445000"/>
            <a:ext cx="87854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ai valori medi nazionali, ma superiori alla media di ripartizion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materiali di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405-D31A-4F66-9FD9-BC65FE95470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04" name="CasellaDiTesto 11"/>
          <p:cNvSpPr/>
          <p:nvPr/>
        </p:nvSpPr>
        <p:spPr>
          <a:xfrm>
            <a:off x="395280" y="5535720"/>
            <a:ext cx="835200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e medie nazionali, in particolare per quanto riguarda il sistema SGR e la funzione di che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2400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adeguatezza di SGR come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698328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CF0-5514-4524-82FF-E17CB9585A3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4"/>
          <p:cNvSpPr/>
          <p:nvPr/>
        </p:nvSpPr>
        <p:spPr>
          <a:xfrm>
            <a:off x="539640" y="189000"/>
            <a:ext cx="8352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- IValC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39640" y="6206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Grado d’interesse dell’Ente camerale nei confronti del CIS e grado di utilità del coinvolgimento dell’Ente nelle future rilevazioni censuarie*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(valori medi nella scala da 1 = minimo a 6 =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95280" y="5445000"/>
            <a:ext cx="81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* La dimensione delle bolle è proporzionale al numero medio di unità per UPC nell’ambito delle reg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50920" y="1628640"/>
          <a:ext cx="8281800" cy="3440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628640"/>
                    <a:ext cx="828180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84DC-5F4A-43E5-B7F4-F0B4CD4A53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3348000" y="1557360"/>
            <a:ext cx="410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razie per l’attenzi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3419640" y="3284640"/>
            <a:ext cx="4032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Roberta Pier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Ufficio territoriale per l’Emilia-Romagna e Ma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piergiov@istat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332-FB6B-427A-8778-FA8E524280D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505320" y="3124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C6B8-D629-47AF-B79D-D2F638B11B1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68360" y="692280"/>
            <a:ext cx="8435880" cy="49719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260.110 impre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481.473 non pro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3781440" y="3573360"/>
            <a:ext cx="3843360" cy="968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39640" y="260280"/>
            <a:ext cx="741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nazi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74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8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 Regionali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66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H="1">
            <a:off x="3251160" y="3857760"/>
            <a:ext cx="2379600" cy="11397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 flipH="1" flipV="1">
            <a:off x="4940280" y="3196800"/>
            <a:ext cx="636480" cy="5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4"/>
          <p:cNvSpPr/>
          <p:nvPr/>
        </p:nvSpPr>
        <p:spPr>
          <a:xfrm>
            <a:off x="3165480" y="22845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2470320" y="3857760"/>
            <a:ext cx="2568240" cy="9745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651640" y="4149720"/>
            <a:ext cx="3168360" cy="13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di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  <a:ea typeface="ヒラギノ角ゴ Pro W3"/>
              </a:rPr>
              <a:t>2.917 operat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</a:rPr>
              <a:t>Media questionari per operatore 3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5200200" y="4959360"/>
            <a:ext cx="45252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098880" y="42530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03280" y="3573720"/>
            <a:ext cx="26622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UNIONCAMER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37120" y="3564000"/>
            <a:ext cx="199224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461280" y="2906640"/>
            <a:ext cx="232560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rvizi di statistica delle Province autonome di Trento e 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78588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461280" y="1081080"/>
            <a:ext cx="785520" cy="312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222720" y="2557440"/>
            <a:ext cx="186696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596880" y="826920"/>
            <a:ext cx="8223120" cy="137808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B3B-CC03-4703-AD88-FF99A1F5CB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39640" y="620640"/>
            <a:ext cx="8436240" cy="4971960"/>
          </a:xfrm>
          <a:prstGeom prst="rect">
            <a:avLst/>
          </a:prstGeom>
          <a:solidFill>
            <a:srgbClr val="d8fa0a">
              <a:alpha val="54000"/>
            </a:srgbClr>
          </a:solidFill>
          <a:ln w="255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37.905 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24.255 non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755640" y="189000"/>
            <a:ext cx="720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in Emilia-Romag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98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o Regionale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4"/>
          <p:cNvSpPr/>
          <p:nvPr/>
        </p:nvSpPr>
        <p:spPr>
          <a:xfrm>
            <a:off x="3132000" y="23493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627280" y="3860640"/>
            <a:ext cx="2568600" cy="974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203640" y="40766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11280" y="3499560"/>
            <a:ext cx="1511280" cy="459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NIONCAMERE Emilia-Ro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89388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589800" y="981000"/>
            <a:ext cx="93492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132000" y="262080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611280" y="765000"/>
            <a:ext cx="8223120" cy="1522440"/>
          </a:xfrm>
          <a:prstGeom prst="rect">
            <a:avLst/>
          </a:prstGeom>
          <a:noFill/>
          <a:ln w="25560">
            <a:solidFill>
              <a:srgbClr val="ca0a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6" descr=""/>
          <p:cNvPicPr/>
          <p:nvPr/>
        </p:nvPicPr>
        <p:blipFill>
          <a:blip r:embed="rId5"/>
          <a:stretch/>
        </p:blipFill>
        <p:spPr>
          <a:xfrm>
            <a:off x="7020000" y="2997360"/>
            <a:ext cx="657000" cy="2304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1979640" y="5373720"/>
            <a:ext cx="5688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"/>
          <p:cNvPicPr/>
          <p:nvPr/>
        </p:nvPicPr>
        <p:blipFill>
          <a:blip r:embed="rId6"/>
          <a:stretch/>
        </p:blipFill>
        <p:spPr>
          <a:xfrm>
            <a:off x="7740720" y="2567160"/>
            <a:ext cx="1085760" cy="27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9" descr=""/>
          <p:cNvPicPr/>
          <p:nvPr/>
        </p:nvPicPr>
        <p:blipFill>
          <a:blip r:embed="rId7"/>
          <a:stretch/>
        </p:blipFill>
        <p:spPr>
          <a:xfrm>
            <a:off x="5867280" y="2997360"/>
            <a:ext cx="1086120" cy="23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"/>
          <p:cNvPicPr/>
          <p:nvPr/>
        </p:nvPicPr>
        <p:blipFill>
          <a:blip r:embed="rId8"/>
          <a:stretch/>
        </p:blipFill>
        <p:spPr>
          <a:xfrm>
            <a:off x="7020000" y="2708280"/>
            <a:ext cx="619200" cy="209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68360" y="3573360"/>
            <a:ext cx="19926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508720" y="3068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B4DF-C352-47D1-A3B1-1729A5CFCFF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57200" y="333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innovazioni di metodo e tecn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"/>
          <p:cNvSpPr/>
          <p:nvPr/>
        </p:nvSpPr>
        <p:spPr>
          <a:xfrm>
            <a:off x="324000" y="1052640"/>
            <a:ext cx="836424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285840">
              <a:buSzPct val="20562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ensimento assistito da archi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segna da parte del vettor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stituzione multica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cupero mancate risposte da parte dei rilevato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istema di Gestione della Rilevazione (SG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Utilizzo PEC ed email per solleciti e diff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te di rilevazione qualific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tenuti informativi ined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C1F-C225-44BE-B99B-F94A547AFC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2411280" y="115920"/>
            <a:ext cx="5362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spedizione po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6"/>
          <p:cNvSpPr/>
          <p:nvPr/>
        </p:nvSpPr>
        <p:spPr>
          <a:xfrm>
            <a:off x="684360" y="692280"/>
            <a:ext cx="71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Esito della spedizione postale dei questionari </a:t>
            </a:r>
            <a:r>
              <a:rPr b="1" lang="it-IT" sz="1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onsegnati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 alle unità di rilevazione per UPC (valori percentual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1"/>
          <p:cNvGraphicFramePr/>
          <p:nvPr/>
        </p:nvGraphicFramePr>
        <p:xfrm>
          <a:off x="755640" y="1341360"/>
          <a:ext cx="7056360" cy="385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0563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174-5D5B-480E-9E51-4E17AB36960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29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2"/>
          <p:cNvSpPr/>
          <p:nvPr/>
        </p:nvSpPr>
        <p:spPr>
          <a:xfrm>
            <a:off x="482760" y="4851360"/>
            <a:ext cx="8280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042920" y="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7278840" y="1773360"/>
            <a:ext cx="1614240" cy="3250800"/>
            <a:chOff x="7278840" y="1773360"/>
            <a:chExt cx="1614240" cy="3250800"/>
          </a:xfrm>
        </p:grpSpPr>
        <p:sp>
          <p:nvSpPr>
            <p:cNvPr id="144" name="Rectangle 5"/>
            <p:cNvSpPr/>
            <p:nvPr/>
          </p:nvSpPr>
          <p:spPr>
            <a:xfrm>
              <a:off x="7407000" y="4092480"/>
              <a:ext cx="195480" cy="93168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AutoShape 6"/>
            <p:cNvCxnSpPr/>
            <p:nvPr/>
          </p:nvCxnSpPr>
          <p:spPr>
            <a:xfrm flipV="1">
              <a:off x="7496280" y="2097720"/>
              <a:ext cx="1080" cy="199512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6" name="Text Box 7"/>
            <p:cNvSpPr/>
            <p:nvPr/>
          </p:nvSpPr>
          <p:spPr>
            <a:xfrm>
              <a:off x="7278840" y="1773360"/>
              <a:ext cx="16142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00000"/>
                  </a:solidFill>
                  <a:latin typeface="Calibri"/>
                </a:rPr>
                <a:t>Accertamenti  violazione obbligo rispos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2556000" y="1268280"/>
            <a:ext cx="86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Prim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284328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4140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780000" y="1268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os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4716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1268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econd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V="1">
            <a:off x="558000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292720" y="1268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Te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EC 30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"/>
          <p:cNvPicPr/>
          <p:nvPr/>
        </p:nvPicPr>
        <p:blipFill>
          <a:blip r:embed="rId3"/>
          <a:stretch/>
        </p:blipFill>
        <p:spPr>
          <a:xfrm>
            <a:off x="7885080" y="3500280"/>
            <a:ext cx="97164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"/>
          <p:cNvPicPr/>
          <p:nvPr/>
        </p:nvPicPr>
        <p:blipFill>
          <a:blip r:embed="rId4"/>
          <a:stretch/>
        </p:blipFill>
        <p:spPr>
          <a:xfrm>
            <a:off x="7812000" y="3716280"/>
            <a:ext cx="657360" cy="16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5"/>
          <p:cNvSpPr/>
          <p:nvPr/>
        </p:nvSpPr>
        <p:spPr>
          <a:xfrm>
            <a:off x="248436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11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378000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23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4500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7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5292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5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6300720" y="1052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= 48mila sollec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5013360"/>
          <a:ext cx="7488000" cy="762120"/>
        </p:xfrm>
        <a:graphic>
          <a:graphicData uri="http://schemas.openxmlformats.org/drawingml/2006/table">
            <a:tbl>
              <a:tblPr/>
              <a:tblGrid>
                <a:gridCol w="91908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et  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8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5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3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-f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ilia-Rom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11"/>
          <p:cNvSpPr/>
          <p:nvPr/>
        </p:nvSpPr>
        <p:spPr>
          <a:xfrm>
            <a:off x="826920" y="40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Tasso di restituzione (variazioni percentuali tra periodi e cumul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87"/>
          <p:cNvGrpSpPr/>
          <p:nvPr/>
        </p:nvGrpSpPr>
        <p:grpSpPr>
          <a:xfrm>
            <a:off x="6588000" y="1268280"/>
            <a:ext cx="1133640" cy="3745080"/>
            <a:chOff x="6588000" y="1268280"/>
            <a:chExt cx="1133640" cy="3745080"/>
          </a:xfrm>
        </p:grpSpPr>
        <p:sp>
          <p:nvSpPr>
            <p:cNvPr id="165" name="Rectangle 388"/>
            <p:cNvSpPr/>
            <p:nvPr/>
          </p:nvSpPr>
          <p:spPr>
            <a:xfrm>
              <a:off x="6946560" y="3889800"/>
              <a:ext cx="226440" cy="112356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389"/>
            <p:cNvCxnSpPr/>
            <p:nvPr/>
          </p:nvCxnSpPr>
          <p:spPr>
            <a:xfrm flipV="1">
              <a:off x="7050600" y="1484640"/>
              <a:ext cx="1080" cy="240480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7" name="Text Box 390"/>
            <p:cNvSpPr/>
            <p:nvPr/>
          </p:nvSpPr>
          <p:spPr>
            <a:xfrm>
              <a:off x="6588000" y="1268280"/>
              <a:ext cx="113364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a0a20"/>
                  </a:solidFill>
                  <a:latin typeface="Arial"/>
                </a:rPr>
                <a:t>CHIU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e 9"/>
          <p:cNvSpPr/>
          <p:nvPr/>
        </p:nvSpPr>
        <p:spPr>
          <a:xfrm>
            <a:off x="7308720" y="5084640"/>
            <a:ext cx="576360" cy="720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897-BF75-4397-A82B-6FB706D60BC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84360" y="115920"/>
            <a:ext cx="755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3" descr=""/>
          <p:cNvPicPr/>
          <p:nvPr/>
        </p:nvPicPr>
        <p:blipFill>
          <a:blip r:embed="rId2"/>
          <a:stretch/>
        </p:blipFill>
        <p:spPr>
          <a:xfrm>
            <a:off x="30240" y="907920"/>
            <a:ext cx="8934480" cy="4152960"/>
          </a:xfrm>
          <a:prstGeom prst="rect">
            <a:avLst/>
          </a:prstGeom>
          <a:ln w="0">
            <a:noFill/>
          </a:ln>
        </p:spPr>
      </p:pic>
      <p:sp>
        <p:nvSpPr>
          <p:cNvPr id="176" name="Ovale 9"/>
          <p:cNvSpPr/>
          <p:nvPr/>
        </p:nvSpPr>
        <p:spPr>
          <a:xfrm>
            <a:off x="2411280" y="2924280"/>
            <a:ext cx="792360" cy="7189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e 9"/>
          <p:cNvSpPr/>
          <p:nvPr/>
        </p:nvSpPr>
        <p:spPr>
          <a:xfrm>
            <a:off x="5651640" y="3573360"/>
            <a:ext cx="50292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e 9"/>
          <p:cNvSpPr/>
          <p:nvPr/>
        </p:nvSpPr>
        <p:spPr>
          <a:xfrm>
            <a:off x="4067280" y="3789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e 9"/>
          <p:cNvSpPr/>
          <p:nvPr/>
        </p:nvSpPr>
        <p:spPr>
          <a:xfrm>
            <a:off x="7164360" y="3573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e 9"/>
          <p:cNvSpPr/>
          <p:nvPr/>
        </p:nvSpPr>
        <p:spPr>
          <a:xfrm>
            <a:off x="1908000" y="4437000"/>
            <a:ext cx="64800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e 9"/>
          <p:cNvSpPr/>
          <p:nvPr/>
        </p:nvSpPr>
        <p:spPr>
          <a:xfrm>
            <a:off x="392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e 9"/>
          <p:cNvSpPr/>
          <p:nvPr/>
        </p:nvSpPr>
        <p:spPr>
          <a:xfrm>
            <a:off x="5580000" y="4508640"/>
            <a:ext cx="647640" cy="64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e 9"/>
          <p:cNvSpPr/>
          <p:nvPr/>
        </p:nvSpPr>
        <p:spPr>
          <a:xfrm>
            <a:off x="716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8"/>
          <p:cNvSpPr/>
          <p:nvPr/>
        </p:nvSpPr>
        <p:spPr>
          <a:xfrm>
            <a:off x="6084720" y="4508640"/>
            <a:ext cx="71640" cy="215640"/>
          </a:xfrm>
          <a:prstGeom prst="downArrow">
            <a:avLst>
              <a:gd name="adj1" fmla="val 50000"/>
              <a:gd name="adj2" fmla="val 75251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9"/>
          <p:cNvSpPr/>
          <p:nvPr/>
        </p:nvSpPr>
        <p:spPr>
          <a:xfrm>
            <a:off x="7596360" y="450864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0"/>
          <p:cNvSpPr/>
          <p:nvPr/>
        </p:nvSpPr>
        <p:spPr>
          <a:xfrm flipH="1" rot="10800000">
            <a:off x="2411280" y="4508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1"/>
          <p:cNvSpPr/>
          <p:nvPr/>
        </p:nvSpPr>
        <p:spPr>
          <a:xfrm flipH="1" rot="10800000">
            <a:off x="4426560" y="4508280"/>
            <a:ext cx="73080" cy="215640"/>
          </a:xfrm>
          <a:prstGeom prst="downArrow">
            <a:avLst>
              <a:gd name="adj1" fmla="val 50000"/>
              <a:gd name="adj2" fmla="val 73768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364000" y="58053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2:14:20Z</dcterms:created>
  <dc:creator>Bruna Tabanella</dc:creator>
  <dc:description/>
  <dc:language>en-US</dc:language>
  <cp:lastModifiedBy>Daniela DL. Lauriello</cp:lastModifiedBy>
  <cp:lastPrinted>2014-04-28T15:02:57Z</cp:lastPrinted>
  <dcterms:modified xsi:type="dcterms:W3CDTF">2014-07-07T14:59:33Z</dcterms:modified>
  <cp:revision>182</cp:revision>
  <dc:subject/>
  <dc:title>Presentazione di PowerPoint</dc:title>
</cp:coreProperties>
</file>