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014-3536-4F88-B577-2C5ADE682E5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0A2-E032-45D4-A0BA-3F059843FF6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7E2-74DC-4A15-BE14-6810BA5B623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2731-5BFB-428F-BE99-6C048A7F991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7F6-F32C-4BD2-A06C-090962A1ED5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32E5-3953-49FE-A9C2-BBFC777384B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C48-871F-4A47-AE00-D36E3F7ACBD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94D-7C7B-4341-ADB7-7300FE99636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566-325E-4AD6-B825-32374A348BB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955-0D7B-4AB0-9681-5373B3BF841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4B3D-E2F5-46FB-A504-4AE2E704DE9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B59E-E957-4332-8C3C-BD7EEDEE42E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AA10-58DB-4060-9C64-B350280C01F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023-556B-4367-8849-31FDDDBB967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116E-E89C-4A46-8013-4733D054217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16360" y="9371160"/>
            <a:ext cx="2919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967-78B0-497E-A956-9E5FAE7A9E4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8F5E-D237-4306-9D65-7713C4328DC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42A-83D5-4E41-8378-307ABAE66CF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B229-F3C4-46B6-9351-FFCF71A09E2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3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egnaposto piè di pagina 1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863-F729-4B25-AA2F-DB551126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526-5498-4CA3-940C-8FDA6AD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496-5822-4C38-8B17-DF266FC3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E52-9CD7-407C-AB70-508BA175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A70-1764-4588-BF90-78892043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22E-98F6-4CC8-8F25-8D26CC1A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450-A90D-4716-8C9B-1A818F40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E17-A170-4B66-A948-FA774E9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977-EBB2-41A7-ABA8-FE8CE5E1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0B3-8D80-44C1-83DC-34FCA94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7C5-BBD5-4CDE-A74E-475D4C9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0C2-7E27-4AF7-968A-59B7734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D58F-DA4A-45AC-A536-47CBC83CF46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476280"/>
            <a:ext cx="8288280" cy="504036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780000" y="25257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780000" y="960480"/>
            <a:ext cx="3708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9° Censimento dell’industria e dei servi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e Censimento delle Istituzioni non prof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heck-up della Camp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lla luce dei dati censu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782880" y="4221000"/>
            <a:ext cx="498312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affaele De Sio</a:t>
            </a:r>
            <a:br>
              <a:rPr sz="1400"/>
            </a:br>
            <a:r>
              <a:rPr b="0" lang="it-IT" sz="1200" spc="-1" strike="noStrike">
                <a:solidFill>
                  <a:srgbClr val="ffffff"/>
                </a:solidFill>
                <a:latin typeface="Courier New"/>
              </a:rPr>
              <a:t>Segretario Gene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urier New"/>
              </a:rPr>
              <a:t>UnionCamere Campani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7" descr="unioncamere_buono.jpg"/>
          <p:cNvPicPr/>
          <p:nvPr/>
        </p:nvPicPr>
        <p:blipFill>
          <a:blip r:embed="rId2"/>
          <a:stretch/>
        </p:blipFill>
        <p:spPr>
          <a:xfrm>
            <a:off x="6732720" y="6021360"/>
            <a:ext cx="211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asellaDiTesto 2"/>
          <p:cNvSpPr/>
          <p:nvPr/>
        </p:nvSpPr>
        <p:spPr>
          <a:xfrm>
            <a:off x="357120" y="285840"/>
            <a:ext cx="831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’esito della spedizione po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3"/>
          <p:cNvSpPr/>
          <p:nvPr/>
        </p:nvSpPr>
        <p:spPr>
          <a:xfrm>
            <a:off x="571680" y="714240"/>
            <a:ext cx="81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Esito della spedizione postale dei questionari alle unità di rilevazione per Ufficio Provinciale di Censimento – Valori percentuali sul totale delle unità in li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magine 4" descr=""/>
          <p:cNvPicPr/>
          <p:nvPr/>
        </p:nvPicPr>
        <p:blipFill>
          <a:blip r:embed="rId1"/>
          <a:stretch/>
        </p:blipFill>
        <p:spPr>
          <a:xfrm>
            <a:off x="1325520" y="1320840"/>
            <a:ext cx="6461280" cy="36799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41" name="CasellaDiTesto 9"/>
          <p:cNvSpPr/>
          <p:nvPr/>
        </p:nvSpPr>
        <p:spPr>
          <a:xfrm>
            <a:off x="522360" y="5114880"/>
            <a:ext cx="8223120" cy="5961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La spedizione dei questionari alle imprese e alle istituzioni non profit presenti nelle liste pre-censuarie è stata realizzata da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Poste Italiane a partire dal 3 settembre 2012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. A livello nazionale la consegna dei questionari ha avuto esito positivo nell’81 per cento dei cas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64000" y="58053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magine 7" descr="unioncamere_buono.jpg"/>
          <p:cNvPicPr/>
          <p:nvPr/>
        </p:nvPicPr>
        <p:blipFill>
          <a:blip r:embed="rId3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"/>
          <p:cNvSpPr/>
          <p:nvPr/>
        </p:nvSpPr>
        <p:spPr>
          <a:xfrm>
            <a:off x="506520" y="285840"/>
            <a:ext cx="835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48" name="CasellaDiTesto 13"/>
          <p:cNvSpPr/>
          <p:nvPr/>
        </p:nvSpPr>
        <p:spPr>
          <a:xfrm>
            <a:off x="714240" y="13255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Il 10 settembre 2012 è stata la data di avvio della fase di restituzione dei question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sellaDiTesto 14"/>
          <p:cNvSpPr/>
          <p:nvPr/>
        </p:nvSpPr>
        <p:spPr>
          <a:xfrm>
            <a:off x="714240" y="25401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La Campania, a conclusione del Censimento, presenta un livello di restituzione di quasi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15 punti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al di sotto della media naz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tangolo arrotondato 15"/>
          <p:cNvSpPr/>
          <p:nvPr/>
        </p:nvSpPr>
        <p:spPr>
          <a:xfrm>
            <a:off x="500040" y="2373480"/>
            <a:ext cx="7643880" cy="928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co 22" descr=""/>
          <p:cNvPicPr/>
          <p:nvPr/>
        </p:nvPicPr>
        <p:blipFill>
          <a:blip r:embed="rId2"/>
          <a:stretch/>
        </p:blipFill>
        <p:spPr>
          <a:xfrm>
            <a:off x="2643120" y="3540240"/>
            <a:ext cx="3262320" cy="2174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4"/>
          <p:cNvSpPr/>
          <p:nvPr/>
        </p:nvSpPr>
        <p:spPr>
          <a:xfrm>
            <a:off x="500040" y="1182600"/>
            <a:ext cx="7572240" cy="100008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magine 7" descr="unioncamere_buono.jpg"/>
          <p:cNvPicPr/>
          <p:nvPr/>
        </p:nvPicPr>
        <p:blipFill>
          <a:blip r:embed="rId3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468360" y="333360"/>
            <a:ext cx="835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59" name="CasellaDiTesto 12"/>
          <p:cNvSpPr/>
          <p:nvPr/>
        </p:nvSpPr>
        <p:spPr>
          <a:xfrm>
            <a:off x="357120" y="1008000"/>
            <a:ext cx="821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f5f5f"/>
                </a:solidFill>
                <a:latin typeface="Arial"/>
              </a:rPr>
              <a:t>Andamento della restituzione dei questionari in Campania e in Italia per periodo della rilevazione – Variazioni percentuali tra periodi di rile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magine 10" descr=""/>
          <p:cNvPicPr/>
          <p:nvPr/>
        </p:nvPicPr>
        <p:blipFill>
          <a:blip r:embed="rId2"/>
          <a:stretch/>
        </p:blipFill>
        <p:spPr>
          <a:xfrm>
            <a:off x="1000080" y="1625760"/>
            <a:ext cx="7000920" cy="40179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8"/>
          <p:cNvGrpSpPr/>
          <p:nvPr/>
        </p:nvGrpSpPr>
        <p:grpSpPr>
          <a:xfrm>
            <a:off x="6586560" y="2241720"/>
            <a:ext cx="914400" cy="2972880"/>
            <a:chOff x="6586560" y="2241720"/>
            <a:chExt cx="914400" cy="2972880"/>
          </a:xfrm>
        </p:grpSpPr>
        <p:sp>
          <p:nvSpPr>
            <p:cNvPr id="162" name="Rectangle 9"/>
            <p:cNvSpPr/>
            <p:nvPr/>
          </p:nvSpPr>
          <p:spPr>
            <a:xfrm>
              <a:off x="6876000" y="4308840"/>
              <a:ext cx="182880" cy="90576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10"/>
            <p:cNvCxnSpPr/>
            <p:nvPr/>
          </p:nvCxnSpPr>
          <p:spPr>
            <a:xfrm flipV="1">
              <a:off x="6959520" y="2369520"/>
              <a:ext cx="1080" cy="193932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4" name="Text Box 11"/>
            <p:cNvSpPr/>
            <p:nvPr/>
          </p:nvSpPr>
          <p:spPr>
            <a:xfrm>
              <a:off x="6586560" y="2241720"/>
              <a:ext cx="91440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00000"/>
                  </a:solidFill>
                  <a:latin typeface="Calibri"/>
                </a:rPr>
                <a:t>CHIU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magine 7" descr="unioncamere_buono.jpg"/>
          <p:cNvPicPr/>
          <p:nvPr/>
        </p:nvPicPr>
        <p:blipFill>
          <a:blip r:embed="rId3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4"/>
          <p:cNvSpPr/>
          <p:nvPr/>
        </p:nvSpPr>
        <p:spPr>
          <a:xfrm>
            <a:off x="468360" y="333360"/>
            <a:ext cx="835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71" name="CasellaDiTesto 9"/>
          <p:cNvSpPr/>
          <p:nvPr/>
        </p:nvSpPr>
        <p:spPr>
          <a:xfrm>
            <a:off x="357120" y="1579680"/>
            <a:ext cx="821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f5f5f"/>
                </a:solidFill>
                <a:latin typeface="Arial"/>
              </a:rPr>
              <a:t>Tasso di restituzione dei questionari per periodo della rilevazione – Valori percentuali sul totale delle unità in lista – Dati cumulati Campania e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85840" y="2214720"/>
          <a:ext cx="8655120" cy="1571400"/>
        </p:xfrm>
        <a:graphic>
          <a:graphicData uri="http://schemas.openxmlformats.org/drawingml/2006/table">
            <a:tbl>
              <a:tblPr/>
              <a:tblGrid>
                <a:gridCol w="1017360"/>
                <a:gridCol w="509760"/>
                <a:gridCol w="496800"/>
                <a:gridCol w="509760"/>
                <a:gridCol w="512640"/>
                <a:gridCol w="515880"/>
                <a:gridCol w="509760"/>
                <a:gridCol w="509400"/>
                <a:gridCol w="496800"/>
                <a:gridCol w="519120"/>
                <a:gridCol w="511200"/>
                <a:gridCol w="506520"/>
                <a:gridCol w="509760"/>
                <a:gridCol w="509400"/>
                <a:gridCol w="509760"/>
                <a:gridCol w="51120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0-se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7-se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08-o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5-o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2-o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9-o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05-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2-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9-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6-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03-d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0-d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7-d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0-d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8-f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p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7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a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5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6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6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7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73" name="CasellaDiTesto 10"/>
          <p:cNvSpPr/>
          <p:nvPr/>
        </p:nvSpPr>
        <p:spPr>
          <a:xfrm>
            <a:off x="522360" y="4705200"/>
            <a:ext cx="8223120" cy="9309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l 10 settembre 2012 è stata la data di avvio della fase di restituzione dei questionari. A circa un mese dalla partenza, la Campania registrava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un tasso di restituzione  di 5 punti percentuali inferiore alla media nazionale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(l’8 ottobre avevano restituito il questionario compilato l’8,1 per cento delle unità in lista a fronte del 13,6 per cento dell’Italia). Osservando inoltre l’andamento della restituzione dei questionari per periodo di rilevazione, in Campania il processo di raccolta dei questionari compilati è stato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più lento rispetto a quanto rilevato in media in Ita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magine 7" descr="unioncamere_buono.jpg"/>
          <p:cNvPicPr/>
          <p:nvPr/>
        </p:nvPicPr>
        <p:blipFill>
          <a:blip r:embed="rId8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4"/>
          <p:cNvSpPr/>
          <p:nvPr/>
        </p:nvSpPr>
        <p:spPr>
          <a:xfrm>
            <a:off x="457200" y="142920"/>
            <a:ext cx="8507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2"/>
          <p:cNvSpPr/>
          <p:nvPr/>
        </p:nvSpPr>
        <p:spPr>
          <a:xfrm>
            <a:off x="714240" y="17146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570.000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 solleciti per la restituzione dei questionari a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livello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arrotondato 13"/>
          <p:cNvSpPr/>
          <p:nvPr/>
        </p:nvSpPr>
        <p:spPr>
          <a:xfrm>
            <a:off x="500040" y="1428840"/>
            <a:ext cx="7643880" cy="928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sellaDiTesto 14"/>
          <p:cNvSpPr/>
          <p:nvPr/>
        </p:nvSpPr>
        <p:spPr>
          <a:xfrm>
            <a:off x="714240" y="30002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43.000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 solleciti per la restituzione dei questionari in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Camp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Di cui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23.000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 elettronici (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53%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tangolo arrotondato 15"/>
          <p:cNvSpPr/>
          <p:nvPr/>
        </p:nvSpPr>
        <p:spPr>
          <a:xfrm>
            <a:off x="500040" y="2714760"/>
            <a:ext cx="7643880" cy="13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4"/>
          <p:cNvSpPr/>
          <p:nvPr/>
        </p:nvSpPr>
        <p:spPr>
          <a:xfrm>
            <a:off x="468360" y="333360"/>
            <a:ext cx="835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179280" y="2143080"/>
          <a:ext cx="8856720" cy="2452680"/>
        </p:xfrm>
        <a:graphic>
          <a:graphicData uri="http://schemas.openxmlformats.org/drawingml/2006/table">
            <a:tbl>
              <a:tblPr/>
              <a:tblGrid>
                <a:gridCol w="1390680"/>
                <a:gridCol w="919080"/>
                <a:gridCol w="933480"/>
                <a:gridCol w="935280"/>
                <a:gridCol w="1077840"/>
                <a:gridCol w="73080"/>
                <a:gridCol w="957240"/>
                <a:gridCol w="934920"/>
                <a:gridCol w="781200"/>
                <a:gridCol w="780840"/>
                <a:gridCol w="36720"/>
                <a:gridCol w="36360"/>
              </a:tblGrid>
              <a:tr h="2811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FFICI O PROVINCIALE DI CENS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I Sollecito PEC (16-18/10/2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II Sollecito PEC (16-19/11/2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III Sollecito PEC (30/11/2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Sollecito postale (6/11/2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Totale (v.a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Di cui impres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Di cui non profit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Totale (v.a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Di cui impres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Di cui non profit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er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.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enev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po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.9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9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.3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.8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.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7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vell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5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7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le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7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9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.0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3.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7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p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9.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.0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6.5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9.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a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25.9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9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6.7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63.6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293.8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1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8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CasellaDiTesto 10"/>
          <p:cNvSpPr/>
          <p:nvPr/>
        </p:nvSpPr>
        <p:spPr>
          <a:xfrm>
            <a:off x="357120" y="1579680"/>
            <a:ext cx="821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f5f5f"/>
                </a:solidFill>
                <a:latin typeface="Arial"/>
              </a:rPr>
              <a:t>Solleciti ai non rispondenti per periodo della rilevazione – Valoriassoluti e percentuali sul totale dei solleciti del peri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sellaDiTesto 11"/>
          <p:cNvSpPr/>
          <p:nvPr/>
        </p:nvSpPr>
        <p:spPr>
          <a:xfrm>
            <a:off x="522360" y="4929120"/>
            <a:ext cx="8223120" cy="763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n Campania, così come in Italia, oltre il 90 per cento dei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solleciti via PEC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hanno riguardato le imprese che sono obbligate per legge a dotarsi di indirizzo di posta certificata. Diversamente i solleciti postali vedono una prevalenza di istituzioni non profit, non tenute a tale obbligo. Tale risultato spiega in parte il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maggiore utilizzo del web come canale di restituzione del questionario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da parte delle impre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magine 7" descr="unioncamere_buono.jpg"/>
          <p:cNvPicPr/>
          <p:nvPr/>
        </p:nvPicPr>
        <p:blipFill>
          <a:blip r:embed="rId30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4"/>
          <p:cNvSpPr/>
          <p:nvPr/>
        </p:nvSpPr>
        <p:spPr>
          <a:xfrm>
            <a:off x="457200" y="71280"/>
            <a:ext cx="86868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ject 2" descr=""/>
          <p:cNvPicPr/>
          <p:nvPr/>
        </p:nvPicPr>
        <p:blipFill>
          <a:blip r:embed="rId2"/>
          <a:stretch/>
        </p:blipFill>
        <p:spPr>
          <a:xfrm>
            <a:off x="357120" y="1893960"/>
            <a:ext cx="8345520" cy="2884320"/>
          </a:xfrm>
          <a:prstGeom prst="rect">
            <a:avLst/>
          </a:prstGeom>
          <a:ln w="0">
            <a:noFill/>
          </a:ln>
        </p:spPr>
      </p:pic>
      <p:sp>
        <p:nvSpPr>
          <p:cNvPr id="201" name="CasellaDiTesto 17"/>
          <p:cNvSpPr/>
          <p:nvPr/>
        </p:nvSpPr>
        <p:spPr>
          <a:xfrm>
            <a:off x="357120" y="1357200"/>
            <a:ext cx="821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5f5f5f"/>
                </a:solidFill>
                <a:latin typeface="Arial"/>
              </a:rPr>
              <a:t>Questionari restituiti per canale e Ufficio Provinciale di Censimento – Valori assoluti, percentuali e posizione nella graduatoria nazionale per tasso di restituzione dei questionari via w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sellaDiTesto 11"/>
          <p:cNvSpPr/>
          <p:nvPr/>
        </p:nvSpPr>
        <p:spPr>
          <a:xfrm>
            <a:off x="522360" y="4929120"/>
            <a:ext cx="8223120" cy="763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l 77 per cento dei questionari restituiti in Campania è stato compilato e inviato via web, un dato molto superiore alla media italiana (66,4 per cento). Differenze emergono tra le due rilevazioni per le quali le incidenze a livello regionale sono rispettivamente pari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all’85,4 per cento per le imprese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(a fronte di 78,8 per cento in Italia) e al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70,9 per cento per le istituzioni non profit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(58,9 per cento in Itali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7" descr="unioncamere_buono.jpg"/>
          <p:cNvPicPr/>
          <p:nvPr/>
        </p:nvPicPr>
        <p:blipFill>
          <a:blip r:embed="rId3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4"/>
          <p:cNvSpPr/>
          <p:nvPr/>
        </p:nvSpPr>
        <p:spPr>
          <a:xfrm>
            <a:off x="457200" y="423720"/>
            <a:ext cx="8472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e attività di accertamento della viola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dell’obbligo di rispo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16"/>
          <p:cNvSpPr/>
          <p:nvPr/>
        </p:nvSpPr>
        <p:spPr>
          <a:xfrm>
            <a:off x="714240" y="15717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66.000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 diffide sono state inviate per la restituzione dei questionari a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livello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ttangolo arrotondato 17"/>
          <p:cNvSpPr/>
          <p:nvPr/>
        </p:nvSpPr>
        <p:spPr>
          <a:xfrm>
            <a:off x="500040" y="1428840"/>
            <a:ext cx="2643120" cy="1857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Connettore 2 22"/>
          <p:cNvCxnSpPr/>
          <p:nvPr/>
        </p:nvCxnSpPr>
        <p:spPr>
          <a:xfrm>
            <a:off x="3285720" y="2286000"/>
            <a:ext cx="1715400" cy="216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212" name="CasellaDiTesto 23"/>
          <p:cNvSpPr/>
          <p:nvPr/>
        </p:nvSpPr>
        <p:spPr>
          <a:xfrm>
            <a:off x="5572080" y="19335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Restituzione dei questionari  a segu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della diffida: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arrotondato 24"/>
          <p:cNvSpPr/>
          <p:nvPr/>
        </p:nvSpPr>
        <p:spPr>
          <a:xfrm>
            <a:off x="5357880" y="1785960"/>
            <a:ext cx="2786040" cy="11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sellaDiTesto 25"/>
          <p:cNvSpPr/>
          <p:nvPr/>
        </p:nvSpPr>
        <p:spPr>
          <a:xfrm>
            <a:off x="714240" y="37861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7.000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 diffide sono state inviate per la restituzione dei questionari in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Camp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tangolo arrotondato 26"/>
          <p:cNvSpPr/>
          <p:nvPr/>
        </p:nvSpPr>
        <p:spPr>
          <a:xfrm>
            <a:off x="500040" y="3643200"/>
            <a:ext cx="2643120" cy="1857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Connettore 2 27"/>
          <p:cNvCxnSpPr/>
          <p:nvPr/>
        </p:nvCxnSpPr>
        <p:spPr>
          <a:xfrm>
            <a:off x="3285720" y="4500720"/>
            <a:ext cx="1715400" cy="216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triangle" w="med"/>
          </a:ln>
        </p:spPr>
      </p:cxnSp>
      <p:sp>
        <p:nvSpPr>
          <p:cNvPr id="217" name="CasellaDiTesto 30"/>
          <p:cNvSpPr/>
          <p:nvPr/>
        </p:nvSpPr>
        <p:spPr>
          <a:xfrm>
            <a:off x="5572080" y="41482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Restituzione dei questionari  a segui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della diffida: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ttangolo arrotondato 31"/>
          <p:cNvSpPr/>
          <p:nvPr/>
        </p:nvSpPr>
        <p:spPr>
          <a:xfrm>
            <a:off x="5357880" y="4000680"/>
            <a:ext cx="2786040" cy="11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4"/>
          <p:cNvSpPr/>
          <p:nvPr/>
        </p:nvSpPr>
        <p:spPr>
          <a:xfrm>
            <a:off x="468360" y="333360"/>
            <a:ext cx="835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e attività di accertamento della viola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dell’obbligo di rispo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14200" y="2357280"/>
          <a:ext cx="8715600" cy="1432080"/>
        </p:xfrm>
        <a:graphic>
          <a:graphicData uri="http://schemas.openxmlformats.org/drawingml/2006/table">
            <a:tbl>
              <a:tblPr/>
              <a:tblGrid>
                <a:gridCol w="1409760"/>
                <a:gridCol w="897120"/>
                <a:gridCol w="895320"/>
                <a:gridCol w="914400"/>
                <a:gridCol w="1109520"/>
                <a:gridCol w="1108080"/>
                <a:gridCol w="827280"/>
                <a:gridCol w="979200"/>
                <a:gridCol w="574920"/>
              </a:tblGrid>
              <a:tr h="441360">
                <a:tc rowSpan="2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a6a6a6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nità con diffida ad adempiere effettu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a6a6a6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 cui restituite dai rispon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a6a6a6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 cui chiuse con esito non rilevata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a6a6a6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 cui con invio accertamento ad I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a6a6a6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su unità in l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.a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su    diffi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su    diffi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.a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su    diffi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p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8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6.8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4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.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.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Rettangolo 9"/>
          <p:cNvSpPr/>
          <p:nvPr/>
        </p:nvSpPr>
        <p:spPr>
          <a:xfrm>
            <a:off x="142920" y="3929040"/>
            <a:ext cx="62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"/>
              </a:rPr>
              <a:t>(a) Unità cessata, irreperibile, fuori campo di osservazione, eccet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asellaDiTesto 13"/>
          <p:cNvSpPr/>
          <p:nvPr/>
        </p:nvSpPr>
        <p:spPr>
          <a:xfrm>
            <a:off x="214200" y="1994040"/>
            <a:ext cx="82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f5f5f"/>
                </a:solidFill>
                <a:latin typeface="Arial"/>
              </a:rPr>
              <a:t>Esito delle diffide ad adempiere – Valori assoluti e percen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asellaDiTesto 11"/>
          <p:cNvSpPr/>
          <p:nvPr/>
        </p:nvSpPr>
        <p:spPr>
          <a:xfrm>
            <a:off x="522360" y="4929120"/>
            <a:ext cx="8223120" cy="763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A livello nazionale, sono state inviate quasi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66 mila diffide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 alle unità non rispondenti pari al 9 per cento del totale delle unità in lista. Di queste quasi 7 mila sono state gestite dagli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UPC della Campania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. In questa regione, l’atto di diffida ha avuto come esito la restituzione del questionario compilato o l’attribuzione dell’esito di unità non rilevata (unità cessata, irreperibile, fuori campo di osservazione, duplicato) nel 39 per cento dei casi, dato di ben 28 punti percentuali inferiore alla media nazional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4"/>
          <p:cNvSpPr/>
          <p:nvPr/>
        </p:nvSpPr>
        <p:spPr>
          <a:xfrm>
            <a:off x="457200" y="1989000"/>
            <a:ext cx="8686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Grazie per la vostra attenzi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3564000" y="3357720"/>
            <a:ext cx="5197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affaele De 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UnionCamere Campania – Segretario 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457200" y="33336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Somm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33440" y="1413000"/>
            <a:ext cx="8296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Il sistema di monitoraggio e l’organizzazione della rete di rilevazione su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’esito della spedizione pos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La restituzione dei questionari compi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Le attività di accertamento della violazione dell’obbligo di 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4"/>
          <p:cNvSpPr/>
          <p:nvPr/>
        </p:nvSpPr>
        <p:spPr>
          <a:xfrm>
            <a:off x="324000" y="333360"/>
            <a:ext cx="675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Introd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24000" y="119700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Le tre rilevazioni censuarie (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imprese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istituzioni non profit 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istituzioni pubblich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) sono state svolte secondo due diverse tipologie di processo di rilevazione, sulla base delle linee di indirizzo definite dal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Piano Generale di Censimento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. Di seguito la descrizione del processo relativo alle imprese e alle istituzioni non profit, che si è caratterizzato per l’unicità del modello organizzativo e l’omogeneità della tecnica di rilev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324000" y="333360"/>
            <a:ext cx="6754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Introd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324000" y="119700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I tratti salienti del processo sono rappresentati dalla presenza di tre livelli di coordinamento territoriale (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nazionale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regionale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provincial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), dalla possibilità di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risposta multicanale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e dall’utilizzo di un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sistema di monitoraggio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mpletamente informatizz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Diverso è il processo di rilevazione per le istituzioni pubbliche, basato su un duplice livello di coordinamento (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nazionale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regional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) e sull’utilizzo esclusivo del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web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come modalità di rispo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457200" y="333360"/>
            <a:ext cx="8400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Il sistema di monitoraggio e l’organizzazione della rete di rilevazione su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2"/>
          <p:cNvSpPr/>
          <p:nvPr/>
        </p:nvSpPr>
        <p:spPr>
          <a:xfrm>
            <a:off x="376200" y="1004760"/>
            <a:ext cx="8364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Uno dei principali strumenti realizzati dall’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Istat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a supporto della rilevazione sulle imprese e della rilevazione sulle istituzioni non profit è stato 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Sistema di Gestione</a:t>
            </a: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della Rilevazione (SG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4"/>
          <p:cNvSpPr/>
          <p:nvPr/>
        </p:nvSpPr>
        <p:spPr>
          <a:xfrm>
            <a:off x="457200" y="260280"/>
            <a:ext cx="7686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8000"/>
          </a:bodyPr>
          <a:p>
            <a:pPr marL="207720" indent="-20772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Il sistema di monitoraggio e l’organizzazione della rete di rilevazione su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5603760" y="1214280"/>
            <a:ext cx="2325960" cy="733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’esito della spedizione dei questionari alle unità di rile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2000160" y="1357200"/>
            <a:ext cx="1143000" cy="392904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428760" y="1000080"/>
            <a:ext cx="8435880" cy="464364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ttangolo 26" descr=""/>
          <p:cNvPicPr/>
          <p:nvPr/>
        </p:nvPicPr>
        <p:blipFill>
          <a:blip r:embed="rId2"/>
          <a:stretch/>
        </p:blipFill>
        <p:spPr>
          <a:xfrm>
            <a:off x="2030400" y="1785960"/>
            <a:ext cx="1494000" cy="3286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603760" y="2143080"/>
            <a:ext cx="2325960" cy="946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’andamento della restituzione dei questionari da parte dei rispond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03760" y="3286080"/>
            <a:ext cx="2325960" cy="520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I tassi di restituzione per canale utilizz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603760" y="4143240"/>
            <a:ext cx="2325960" cy="1372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e attività di accertamento della violazione dell’obbligo di risposta gestite dagli Uffici Provinciali di Censimento (U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ttore 1 31"/>
          <p:cNvSpPr/>
          <p:nvPr/>
        </p:nvSpPr>
        <p:spPr>
          <a:xfrm flipV="1">
            <a:off x="3460680" y="1714680"/>
            <a:ext cx="2000160" cy="14284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nettore 1 33"/>
          <p:cNvSpPr/>
          <p:nvPr/>
        </p:nvSpPr>
        <p:spPr>
          <a:xfrm flipV="1">
            <a:off x="3460680" y="2642760"/>
            <a:ext cx="1928880" cy="5000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nettore 1 35"/>
          <p:cNvSpPr/>
          <p:nvPr/>
        </p:nvSpPr>
        <p:spPr>
          <a:xfrm>
            <a:off x="3532320" y="3286080"/>
            <a:ext cx="1928520" cy="2858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nettore 1 37"/>
          <p:cNvSpPr/>
          <p:nvPr/>
        </p:nvSpPr>
        <p:spPr>
          <a:xfrm>
            <a:off x="3460680" y="3286080"/>
            <a:ext cx="2000160" cy="1500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e 38"/>
          <p:cNvSpPr/>
          <p:nvPr/>
        </p:nvSpPr>
        <p:spPr>
          <a:xfrm>
            <a:off x="3357720" y="2928960"/>
            <a:ext cx="357120" cy="500040"/>
          </a:xfrm>
          <a:prstGeom prst="ellipse">
            <a:avLst/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magine 7" descr="unioncamere_buono.jpg"/>
          <p:cNvPicPr/>
          <p:nvPr/>
        </p:nvPicPr>
        <p:blipFill>
          <a:blip r:embed="rId3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457200" y="285840"/>
            <a:ext cx="80438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8000"/>
          </a:bodyPr>
          <a:p>
            <a:pPr marL="207720" indent="-20772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Il sistema di monitoraggio e l’organizzazione della rete di rilevazione su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71680" y="1357200"/>
            <a:ext cx="8001000" cy="92880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9"/>
          <p:cNvSpPr/>
          <p:nvPr/>
        </p:nvSpPr>
        <p:spPr>
          <a:xfrm>
            <a:off x="1214280" y="15717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’articolazione in 3 livelli della rete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60440" y="2857680"/>
            <a:ext cx="268272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ivello 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286080" y="2857680"/>
            <a:ext cx="268128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ivello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143760" y="2857680"/>
            <a:ext cx="268128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Livello Provinc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arrotondato 14"/>
          <p:cNvSpPr/>
          <p:nvPr/>
        </p:nvSpPr>
        <p:spPr>
          <a:xfrm>
            <a:off x="500040" y="3857760"/>
            <a:ext cx="2643120" cy="857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15"/>
          <p:cNvSpPr/>
          <p:nvPr/>
        </p:nvSpPr>
        <p:spPr>
          <a:xfrm>
            <a:off x="500040" y="4038480"/>
            <a:ext cx="27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"/>
              </a:rPr>
              <a:t>- I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"/>
              </a:rPr>
              <a:t>- Ufficio di Statistica Unionca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arrotondato 16"/>
          <p:cNvSpPr/>
          <p:nvPr/>
        </p:nvSpPr>
        <p:spPr>
          <a:xfrm>
            <a:off x="3286080" y="3857760"/>
            <a:ext cx="2643120" cy="857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sellaDiTesto 17"/>
          <p:cNvSpPr/>
          <p:nvPr/>
        </p:nvSpPr>
        <p:spPr>
          <a:xfrm>
            <a:off x="3357720" y="4152960"/>
            <a:ext cx="27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"/>
              </a:rPr>
              <a:t>Uffici territoriali dell’I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arrotondato 18"/>
          <p:cNvSpPr/>
          <p:nvPr/>
        </p:nvSpPr>
        <p:spPr>
          <a:xfrm>
            <a:off x="6072120" y="3857760"/>
            <a:ext cx="2643120" cy="857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19"/>
          <p:cNvSpPr/>
          <p:nvPr/>
        </p:nvSpPr>
        <p:spPr>
          <a:xfrm>
            <a:off x="6072120" y="4038480"/>
            <a:ext cx="27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"/>
              </a:rPr>
              <a:t>- CCI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"/>
              </a:rPr>
              <a:t>- Unioni Regionali CCI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Connettore 2 21"/>
          <p:cNvCxnSpPr/>
          <p:nvPr/>
        </p:nvCxnSpPr>
        <p:spPr>
          <a:xfrm flipH="1">
            <a:off x="1784160" y="3285720"/>
            <a:ext cx="2160" cy="500760"/>
          </a:xfrm>
          <a:prstGeom prst="straightConnector1">
            <a:avLst/>
          </a:prstGeom>
          <a:ln w="28440">
            <a:solidFill>
              <a:srgbClr val="ca0a20"/>
            </a:solidFill>
            <a:miter/>
            <a:tailEnd len="med" type="arrow" w="med"/>
          </a:ln>
        </p:spPr>
      </p:cxnSp>
      <p:cxnSp>
        <p:nvCxnSpPr>
          <p:cNvPr id="112" name="Connettore 2 22"/>
          <p:cNvCxnSpPr/>
          <p:nvPr/>
        </p:nvCxnSpPr>
        <p:spPr>
          <a:xfrm flipH="1">
            <a:off x="7429320" y="3285720"/>
            <a:ext cx="2160" cy="500760"/>
          </a:xfrm>
          <a:prstGeom prst="straightConnector1">
            <a:avLst/>
          </a:prstGeom>
          <a:ln w="28440">
            <a:solidFill>
              <a:srgbClr val="ca0a20"/>
            </a:solidFill>
            <a:miter/>
            <a:tailEnd len="med" type="arrow" w="med"/>
          </a:ln>
        </p:spPr>
      </p:cxnSp>
      <p:cxnSp>
        <p:nvCxnSpPr>
          <p:cNvPr id="113" name="Connettore 2 23"/>
          <p:cNvCxnSpPr/>
          <p:nvPr/>
        </p:nvCxnSpPr>
        <p:spPr>
          <a:xfrm flipH="1">
            <a:off x="4570200" y="3285720"/>
            <a:ext cx="2160" cy="500760"/>
          </a:xfrm>
          <a:prstGeom prst="straightConnector1">
            <a:avLst/>
          </a:prstGeom>
          <a:ln w="28440">
            <a:solidFill>
              <a:srgbClr val="ca0a20"/>
            </a:solidFill>
            <a:miter/>
            <a:tailEnd len="med" type="arrow" w="med"/>
          </a:ln>
        </p:spPr>
      </p:cxnSp>
      <p:pic>
        <p:nvPicPr>
          <p:cNvPr id="114" name="Immagine 7" descr="unioncamere_buono.jpg"/>
          <p:cNvPicPr/>
          <p:nvPr/>
        </p:nvPicPr>
        <p:blipFill>
          <a:blip r:embed="rId2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457200" y="333360"/>
            <a:ext cx="8258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1000"/>
          </a:bodyPr>
          <a:p>
            <a:pPr marL="189360" indent="-1893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Il sistema di monitoraggio e l’organizzazione della rete di rilevazione su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sellaDiTesto 8"/>
          <p:cNvSpPr/>
          <p:nvPr/>
        </p:nvSpPr>
        <p:spPr>
          <a:xfrm>
            <a:off x="357120" y="114300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Campania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: la rete di rile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10"/>
          <p:cNvSpPr/>
          <p:nvPr/>
        </p:nvSpPr>
        <p:spPr>
          <a:xfrm>
            <a:off x="357120" y="164304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Composizione delle risorse</a:t>
            </a:r>
            <a:r>
              <a:rPr b="1" lang="it-IT" sz="1400" spc="-1" strike="noStrike">
                <a:solidFill>
                  <a:srgbClr val="5f5f5f"/>
                </a:solidFill>
                <a:latin typeface="Arial"/>
              </a:rPr>
              <a:t> umane</a:t>
            </a:r>
            <a:r>
              <a:rPr b="1" lang="it-CH" sz="1400" spc="-1" strike="noStrike">
                <a:solidFill>
                  <a:srgbClr val="5f5f5f"/>
                </a:solidFill>
                <a:latin typeface="Arial"/>
              </a:rPr>
              <a:t> degli</a:t>
            </a:r>
            <a:r>
              <a:rPr b="1" lang="it-IT" sz="1400" spc="-1" strike="noStrike">
                <a:solidFill>
                  <a:srgbClr val="5f5f5f"/>
                </a:solidFill>
                <a:latin typeface="Arial"/>
              </a:rPr>
              <a:t> UPC, per profilo assegnato</a:t>
            </a:r>
            <a:r>
              <a:rPr b="1" lang="fr-FR" sz="1400" spc="-1" strike="noStrike">
                <a:solidFill>
                  <a:srgbClr val="5f5f5f"/>
                </a:solidFill>
                <a:latin typeface="Arial"/>
              </a:rPr>
              <a:t> – Valori assoluti e percen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11"/>
          <p:cNvSpPr/>
          <p:nvPr/>
        </p:nvSpPr>
        <p:spPr>
          <a:xfrm>
            <a:off x="522360" y="4944960"/>
            <a:ext cx="8223120" cy="763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n Campania la rete di rilevazione ha visto il coinvolgimento di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193 operatori censuari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  afferenti agli Uffici Provinciali di Censimento (pari al 7 per cento del totale nazionale) e di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6 Responsabili Istat Territoriali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attivi presso l’Ufficio Regionale di Censimento. Il 75 per cento degli operatori ha svolto il ruolo di rilevatore (145 in termini assoluti) di questi il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56 per cento è un dipendente interno della Camera di Commerc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11"/>
          <p:cNvGraphicFramePr/>
          <p:nvPr/>
        </p:nvGraphicFramePr>
        <p:xfrm>
          <a:off x="577800" y="2000160"/>
          <a:ext cx="7994880" cy="28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000160"/>
                    <a:ext cx="799488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Immagine 7" descr="unioncamere_buono.jpg"/>
          <p:cNvPicPr/>
          <p:nvPr/>
        </p:nvPicPr>
        <p:blipFill>
          <a:blip r:embed="rId4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57120" y="71280"/>
            <a:ext cx="814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’esito della spedizione po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8" name="CasellaDiTesto 8"/>
          <p:cNvSpPr/>
          <p:nvPr/>
        </p:nvSpPr>
        <p:spPr>
          <a:xfrm>
            <a:off x="285840" y="10717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La spedizione dei questionari alle imprese e alle istituzioni non profit presenti nelle liste pre-censuarie è stata realizzata da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Poste Italiane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a partire dal 3 settembre 20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38322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sellaDiTesto 12"/>
          <p:cNvSpPr/>
          <p:nvPr/>
        </p:nvSpPr>
        <p:spPr>
          <a:xfrm>
            <a:off x="714240" y="242892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Consegna dei questionari a livello nazionale                        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ttore 2 14"/>
          <p:cNvCxnSpPr/>
          <p:nvPr/>
        </p:nvCxnSpPr>
        <p:spPr>
          <a:xfrm>
            <a:off x="5429160" y="2642760"/>
            <a:ext cx="858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ttangolo arrotondato 16"/>
          <p:cNvSpPr/>
          <p:nvPr/>
        </p:nvSpPr>
        <p:spPr>
          <a:xfrm>
            <a:off x="571680" y="2286000"/>
            <a:ext cx="7572240" cy="642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a0a2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Diagramma 24" descr=""/>
          <p:cNvPicPr/>
          <p:nvPr/>
        </p:nvPicPr>
        <p:blipFill>
          <a:blip r:embed="rId2"/>
          <a:stretch/>
        </p:blipFill>
        <p:spPr>
          <a:xfrm>
            <a:off x="1060560" y="2073240"/>
            <a:ext cx="7547040" cy="485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Napoli - 20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7" descr="unioncamere_buono.jpg"/>
          <p:cNvPicPr/>
          <p:nvPr/>
        </p:nvPicPr>
        <p:blipFill>
          <a:blip r:embed="rId3"/>
          <a:stretch/>
        </p:blipFill>
        <p:spPr>
          <a:xfrm>
            <a:off x="6632640" y="6095880"/>
            <a:ext cx="2187360" cy="66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2:14:20Z</dcterms:created>
  <dc:creator>Bruna Tabanella</dc:creator>
  <dc:description/>
  <dc:language>en-US</dc:language>
  <cp:lastModifiedBy>Daniela DL. Lauriello</cp:lastModifiedBy>
  <cp:lastPrinted>2014-05-19T07:19:37Z</cp:lastPrinted>
  <dcterms:modified xsi:type="dcterms:W3CDTF">2014-07-09T13:26:50Z</dcterms:modified>
  <cp:revision>220</cp:revision>
  <dc:subject/>
  <dc:title>Presentazione di PowerPoint</dc:title>
</cp:coreProperties>
</file>