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9389-E902-4F71-A6C7-B166233D2E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A98B-A240-4D84-9588-225192FBA6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764C-3E3C-4ADE-AA0D-3E6EC1B40A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BB62-053E-4B90-89C2-6B47213716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DB0F-E6C7-4B3F-89E1-A1DA65ED0D4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8A4B-4A02-4E9F-B465-BBF9BFF270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259B-80E0-41BF-83B6-318ED997BF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C831-F49D-4EBB-9127-A0B1F7043C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B670-D978-4292-98F9-4017BA239D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183D-4782-438D-8B03-BA0B3BED98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F433-DBA4-4C45-AA6E-FA29200DC68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D464-8091-454C-BA64-3B9F946E70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DCF3-58A6-461D-A45A-A54A1D36ED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C885-8C2D-4E4B-B006-DC6A9BCB2E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DA29-A518-4073-80B4-AE77A758A0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9F97-6733-4D91-AD24-0A6EFDF5E27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CDA6F207-9396-4B77-BDC8-1EB3CB60C6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C8EEF43-E82E-4BB7-9FC7-F8B5670418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4C79F7E-027E-45B5-9D8D-41B3BFF469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C0D36CC9-60C7-498F-B32E-30946B6CBC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E443FEE-4406-4857-94CB-EECCC6F936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4851915-D513-473B-A9FD-A3AEB6DF15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6EFE7E7-DF11-4E76-938E-8024AA8514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5F6BFE0-33B4-4D07-9043-81C131940D7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2EFA3DE-EE70-4BD0-AF14-4FF82EDF4E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CB691B2B-4D2F-43F6-BD45-9F269AEEB5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73E9E3B-0C4C-45D7-98D4-9AF66A15E2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300119A-7DD1-456F-986A-38BCB8BFCA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EAA9F55C-F5CA-490F-B2AC-90FB3B015B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498575B-F545-417D-BCCF-5223FE261C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B242E1D-BB2A-4D8A-9E95-86C2D0EEA7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8576FA98-6B70-4D44-A8FF-BC6B9846EE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473BED7-0C8C-4787-BAA8-92812BA223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1319FCF-7680-48D3-9EA2-5003995653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F2E1-116F-4C1C-BB43-F5B73BF901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E076-7B87-4CC9-AAB2-942E3219CB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F495-C17C-4AB0-86AB-CF9B142427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1907-C5D4-4A4D-9ECD-E858FE0868F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CA9E-7CDD-4102-B972-58D0BB47CC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72E6-19FC-484D-8684-B5DDBA664B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EA45-F219-430A-A1C4-9821A25E80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B99D-9B24-49EA-B875-BC4DE1A2A9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14B79-8188-46A9-A666-4E003EFC8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003E9-8C94-4535-BE06-C427C913B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39914-0E83-4AD1-8695-FC5D86C4F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6F5B4-8D69-43CC-A607-97925641D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D2DFD-8E1D-4557-AA5A-6B4085371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4DE91-A39E-4A38-830B-1356F0E57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E648C-7836-4492-879D-3C7DF6EC5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1EF6-9B19-41F4-997B-0EDB5D3DC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1F568-0326-4C19-8BDF-177A82142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2579-D1C6-4B31-9D0F-7B28AB4CB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BB31C-BDA8-44FB-AF45-AE5E42054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B9261-7A38-4760-8C4D-E2EB1E23A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A0CA-ED18-44AA-8400-52508ED245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5796000" y="618480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Napoli 20 Maggi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Campan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32306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Franco Lorenzini</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ea typeface="Arial"/>
              </a:rPr>
              <a:t>Dirigente del Servizio delle rilevazioni</a:t>
            </a:r>
            <a:br>
              <a:rPr sz="1100"/>
            </a:br>
            <a:r>
              <a:rPr b="0" lang="it-IT" sz="1100" spc="-1" strike="noStrike">
                <a:solidFill>
                  <a:srgbClr val="ffffff"/>
                </a:solidFill>
                <a:latin typeface="Arial"/>
                <a:ea typeface="Arial"/>
              </a:rPr>
              <a:t>per i censimenti economici</a:t>
            </a:r>
            <a:endParaRPr b="0" lang="en-US" sz="11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9361-8E1B-4483-AB93-802127BB683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D5C0-ADC8-47AF-A3AE-B0F121E60D1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3685-98A1-48C7-8B0A-5E425A11CE8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011A-258B-4EAF-8B77-6CCE3781F2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809F-8AFB-40C9-BA90-E305049F4E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ABFD-383B-4CD6-AEA9-94D0CF60B02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006B-B461-471E-9DDB-C9ED879B0A4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2747-F12D-4FA9-BE0F-BB4509A2CFE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1F4A-1A60-427B-8CF7-9420DFB90C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3893-8E33-4B15-AC4E-BE7AFB96D23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B935-9CB2-4774-A3C0-947ED85B982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49BE-CDB2-4370-B430-A8716686AC6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4E74-2193-4F00-A0BC-2FE3215ABF5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D444-C6D8-4627-BB76-F9659F93184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B40D-C94A-45EC-9B02-74A96905F79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F705-3913-457F-B6A9-86A7E554311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2362320" cy="12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FRANCO LORENZ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lorenzi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806F-A071-4F39-89D2-A07D9CE348A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D89F-7541-4302-9737-51BE315CA4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4846-45BB-442C-AB04-FEB30E29C1C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53DE-2A81-45B1-ABA0-49868742E50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38B9-90F0-443E-B3C1-FED6F8A38BD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C5E2-2C4D-425F-88F0-60293BBAB87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FBB7-16A4-47AB-BCC1-42AB647FBD5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09T13:29:16Z</dcterms:modified>
  <cp:revision>211</cp:revision>
  <dc:subject/>
  <dc:title>Presentazione di PowerPoint</dc:title>
</cp:coreProperties>
</file>