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49F2-86F6-440B-9C02-5A914181059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BFB7-B7CF-43AC-B54F-58633A51A00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1C89-D6B7-4864-8EA4-895A24226B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A296-1320-4FE1-8765-68E41F66DA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3CCC-CE8B-42BE-BA80-2C1EC3C9D3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3444-ABBD-4B51-AC46-13C5791CFA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3327-2C89-4078-BDF5-720D56C99B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AB23-E8C1-471D-8560-D6B6C52180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1C6A-0A7F-4D50-9891-340B925017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6BC8-B92E-47B1-93C9-8447B5187A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B8D2-A718-4D1B-800A-FF95B3D118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BD64-43B9-4A49-B974-414E0CF7CFA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D9B4-9823-4ABF-A1E6-42341D414D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A237-3C7B-43D6-95BE-106B3D53E56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6DEA-0499-45A2-A5CA-4A334497ED0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7D64-8A35-4332-AAF3-F444EFB9B4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F27853C-8D37-4F08-BEF9-4E80FD75FA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60CC963-387C-42B8-9392-AF7F81973D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B0B8306-D954-4A5B-98A8-684861C808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7E0CD7E-784F-4953-A504-FAB5D384FD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3F0DC82-D25D-467E-8807-052143D0C1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968D535-D47D-4E99-8098-109182EB875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450B3AF4-6E04-4C81-970E-323DD771F0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83E0CF9-8451-4825-B092-F99C6BD52B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5B93CDB-2CE2-4864-9406-51875A536A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2CEC54FB-9DC9-45F0-A648-AD03F57943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3477DFA-2B65-4C7E-B0AF-FFB20C3BE4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92B3CDE-2BC9-48CF-9CC2-76BAF81147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AC6C611C-45F5-491A-AF38-352E230801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A2B96ED-9312-4C2B-8EBC-1C7A25E69C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7C01AAB-9780-40B1-8AC5-DE437A8DCC1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1FF4D8D4-D373-4A7E-9E43-B5CB58B76E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C65A3CD-01D1-41F0-8223-92804D9C60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A6FB38B-6DDE-42EF-A413-D618FB4EC8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1801-33A1-4E2C-BE47-7CF77FF67F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F876-DAB1-4D31-9808-8B2EE17AF0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C9E5-72A3-42A9-B952-5853DFAED4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F7D3-A2AB-49C9-8A84-12D34E6D1B2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D6B6-7A5F-4FD5-A609-9A78399227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A9CF-FD76-47F5-9AEC-0F79F44136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462D-1436-4728-BFCD-9A68B87532D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F701-5A13-4D28-A8BA-DCA62DB22E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33CD5-6866-4386-8C62-FE0891575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4B848-660E-4D4D-A473-2AC8648EB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F4DAE-078F-44F9-A6B5-1B2AECF26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232BB-82F8-4746-8D5B-FA24C3BA6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C89C2-04A7-4590-B9C0-9541334BF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ECAD7-AB70-475A-9802-432C49F6F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6D24D-B836-416B-88EE-99E94741B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30261-7718-4F45-AF7E-4330670C5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4EF35-C27D-4F11-8072-B6DDD835B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DD443-2569-4BA2-8D2C-689F99654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67F0-DEFF-4511-A306-AA308D28E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A0DC-4A24-48BF-B836-C51BAB4D4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27FD-9D3D-41A7-9B5A-933C09644A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6012000" y="618480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Genova 11 giugn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Ligur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43102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Direttore Centrale delle rilevazioni censuarie e dei registri statistici</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1450-EBE7-49CA-93D7-7B59D3FFE6B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C1B0-FC8F-4301-B763-B10DFAB48CB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1488-2F94-4B77-ADDB-87880FB73DD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8183-0C6D-4595-BBBE-A53AA39002E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46B0-30A2-4BE5-BF31-5BC60FA4F5A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58FF-995C-4EB3-9B1B-56631F86A91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3075-10D4-4A89-BB0B-2E886E2D44B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D062-B41C-4C7C-9AA0-A221236BF0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8259-672F-4171-A26E-77E958EC8D7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5B27-37B2-442B-B626-DD1F8BBB7C9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D100-64B8-4FF5-85C5-7FF40148D6C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F225-3D8E-461E-8D28-E13BF4EFC5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A982-E7D6-4172-AB32-5958BDC20B9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15B3-201B-4E0B-B060-734987F033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894B-541F-4B98-AB78-4A04D857CC6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2386-3A80-4E97-A85C-584AA584182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3538440" cy="12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ttore Centrale delle rilevazioni censuarie e dei registri statistici,</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calzaro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E193-123F-48C6-BC31-F7DE8251F9D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6961-4B42-490A-89CB-066E4B1AA15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98AE-CC55-4A68-AD33-FADE225CE46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55DE-EF03-4CDE-844B-3A5C2D28FD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D9A3-ED5E-4E90-A8E2-28CE0AFBC78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11DF-C81D-46A3-8911-119C23119CF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1C6C-9124-4628-BCAE-77F76A328C0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09T15:34:05Z</dcterms:modified>
  <cp:revision>211</cp:revision>
  <dc:subject/>
  <dc:title>Presentazione di PowerPoint</dc:title>
</cp:coreProperties>
</file>