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9B28-0362-4841-91FE-3B3268EAC6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3B69-A68D-4EC7-9C6E-FBC3F5F67F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29BC-146B-485A-8BB5-5AF9295FE7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B98A-99A5-48B8-A79C-FED8B537F8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F9EE-B78B-4CF9-8CF6-CB6B07708C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A2DA-F0AD-4420-BEDE-49E39F78E0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4E0A-069C-48BB-8813-A075E77A07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6CFB-6BB3-49CF-90E4-FCA7E8611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84A6-C050-4CFA-94E6-ECDB1CD719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6254-E0E6-49E3-B72A-7219A64DBC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91DC-8611-4B8E-AC1B-89DD733042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A4B1-65BB-43A3-807C-7DA45C2B5C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B3E5-1EE0-4C5C-88A9-750570AF25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2C7A-59BA-4F41-A850-3CADAE02C3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82B4-59C0-48EF-9481-5121C86749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5C07-AE40-4ED5-9C8B-7326FCB469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11C4BA4-99AE-4766-A746-2A9309C5E2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AAFC05E-19A4-4213-8DE8-20F94C699C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F856CC9-110C-4492-92A0-17ABA496D6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3E3D83E-0707-46C7-8D20-B7F82E7A85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262496A-2EA6-4BD8-83AE-F870706706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8A43A0C-E299-4AA0-8C71-A1E14B8194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B25B325-143F-41A0-8933-34024013DC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BE3ED29-F5E5-48CD-909E-E1BAAC1D1E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EF67880-9D61-4D94-AA73-46BF6E08B1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16392B0-AAC3-4327-9E54-5463B33B50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E201173-3D21-44A8-A3F8-6BD5461BD4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3D8F3D1-A033-4024-88B4-572C4AB078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09A9E82A-3F36-4475-9E4C-AB6E6B9199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1816C64-DC97-4E9B-9157-06FADF376A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E8E7D4C-5612-4526-BAC4-AFE68CD7B2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80F2D4F-024A-4780-96A4-FF4E5A559D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24323F0-79FA-4858-9311-A8B26DE84A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F3F47E8-BCD8-4984-8614-3B15B3BD26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C7F0-3BEF-4C22-957C-75048A6D28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774A-AA4A-4116-8E22-5CE213B01E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D0BB-462A-4678-8C65-1D6EC51497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9624-C2CD-45FF-BBB2-4727ADA4D6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3C36-FACD-4A90-B194-92E036B567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C506-221A-402B-AE76-BC13F06C94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3252-6193-4930-AB8A-C75D7CCE48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C2CA-49C9-4A7B-83DD-2C39763B77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BB29B-DCCD-41CC-BCFB-C29CFA3B8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0B55-1C7C-426A-BDC1-670D253B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6CAE-3BF2-4F05-A5FD-CB5215E64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5484D-B5F2-4111-982E-758677E3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1723-A3CE-4E45-AAA5-477740054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445CE-5717-4A8D-923E-C771FA3E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B8517-1114-436B-8F29-2A334F9F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2A9F0-837E-43C0-AF54-CA0450C61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C7AC-1456-4E82-9102-996D173B4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7332-C070-45F9-8404-CC31DDF2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009E-1CAE-4312-B3CC-6755DE29A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9B1F-8DE7-4BB0-8009-3CEE38A05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661C-AD87-4576-B857-A02ED1F0B5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Perugia,14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Umb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94992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Dirigente del Servizio delle rilevazioni </a:t>
            </a:r>
            <a:br>
              <a:rPr sz="1200"/>
            </a:br>
            <a:r>
              <a:rPr b="0" lang="it-IT" sz="1200" spc="-1" strike="noStrike">
                <a:solidFill>
                  <a:srgbClr val="ffffff"/>
                </a:solidFill>
                <a:latin typeface="Courier New"/>
              </a:rPr>
              <a:t>per i censimenti econom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48DF-0BF0-43D5-AEED-BF51848998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8806-3A7E-453B-89D2-E3B456B6FD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0FC8-C729-4653-ACE0-BAE43189E9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DB8C-1F05-40DC-8350-C84A14EE21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B5B8-8B4A-499B-BB89-B563AE364A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B22B-8A0E-43E0-9C49-C38F2BE68A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F4D4-1507-44B2-92DA-37D9E97FF7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EB72-E185-4E7F-92AB-E0262F8888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D9F2-727B-4258-BE6D-BEAE5EAC2E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CE10-FEE3-4D48-A73F-80BE4A07821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F6F7-F243-4FAD-AB38-4EF3819346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A3F2-668A-4814-B624-F7270D7156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9F9A-8CDF-478C-9476-D7B1172266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8D74-F169-46DA-9ED5-3F83920F08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E56B-B709-4B54-8E23-345EBB6F68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33C4-B501-405E-ACED-BA47D8A278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394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3F0C-4C97-4286-B2BD-E798E60A35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D078-594A-4654-B653-99DE3D3C80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329B-55BD-4018-8C7C-5E9A37B5CD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FD7F-C7F2-4440-9E5D-B8B9121095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662B-35B0-49A4-9D5D-778E5C9664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AD91-504B-4471-8035-E927959801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A266-645C-4CB0-806B-7889C97757E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14T16:47:28Z</dcterms:modified>
  <cp:revision>214</cp:revision>
  <dc:subject/>
  <dc:title>Presentazione di PowerPoint</dc:title>
</cp:coreProperties>
</file>