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ED95-D077-4E9D-BC6A-07D5106586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70A3-E55C-4FDB-A8B1-F0F84A3CB6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84B4-96FD-4573-BFB1-20785A2F30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D77F-3A4D-4F46-B2B8-7A7DEC98A8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6A85-1E94-49A1-8915-921FE1D984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C740-C0E8-4BA2-801F-CD1651316A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EDE0-71FC-4BEB-A01D-62017F3F84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CF43-640B-412B-9DC3-F9819C8680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BED6-22FF-448E-8654-603E43774B4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2550-66BD-4523-A033-89E6660053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A547-8AEC-43BF-9350-9ADCD5833F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84E9-EA88-4D47-947D-0C85168CBA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6B36-E8D1-44A9-9EF4-DF6E5AFBA39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1185-E731-45AD-8C35-B1748BAE75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EDCA-3896-461D-AB08-C86357F387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6EBD-6C9D-4F90-81A7-D22CD528A1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5895E4CD-8F8B-4C94-9E32-D05C370EFD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E08A294-5B29-47E8-B457-CC04B8CF11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A262A3D-7A81-4CD3-AD75-8BD3C73C79E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1292B576-A28F-43EA-9676-867EC6961E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7862B62-CEBA-454D-8729-6A2C3A4783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5A052F2-7FD3-4E7A-AD6E-A6E0E3054C0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929057FF-9E80-475B-AE43-EC92D5144D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F6F80D1-B65E-4CA2-82A2-0C493AC5291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FBC674F-8532-4420-BE63-6507E079DF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416FA4BA-79F3-40A6-B32D-C613ED0F0B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19E5397-FD95-42D8-A5DA-36EC41529A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B00AC6E-677E-4DEF-8FF0-4152328119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C24259FC-8EB8-4537-BF4C-17248069FF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CC6648F-DF4F-420C-AEF7-EB737A7C9A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EBE9B0E-D93B-4919-AFC8-22255D6315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B327B485-79E4-4E27-B593-A6BC016F7C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E8BAB77-9492-49FD-B8E8-7DD04709A3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5D65181-733A-418D-A5B8-D3873A381BB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3326-49BD-4F78-A067-798154ED000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15F6-BEFD-4448-80A1-7F8FA91A8D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4D2A-DA20-4F33-AA30-FF3591DD3A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64AF-227B-436D-9BE6-9D8C076861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0789-E56E-4CC7-98D7-48B6638D325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1C15-F3D0-4BEE-986A-B483ECE8DB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3DEA-29AD-4619-A1D5-BEC6B6BD6C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F0C2-6B7A-4C02-979D-78E6ECD4D3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F18E1-BCCF-4506-A2F1-1AAA524AF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C0637-875F-4F60-B8EC-DC97B53AD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76D90-70C5-48B3-A80F-EA59048A5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FC458-FC83-4CFC-981D-840FC3B7A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9AC01-364A-4423-AA90-A1699142F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AA248-F52A-430E-BAE1-96EE2D3D4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EFBE9-2209-4ECE-AEF5-1922784A5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4F882-9D3B-4046-8198-DDF304A5F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90B22-1162-4AD6-A07E-1FB28BC87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60694-20B5-41AE-8FC5-1F3C04203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DA65E-15A5-4C5D-B984-5A39A801A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4E29B-7F45-4F04-A260-14ABAE7C9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5026-C149-40EE-81F5-27ECBC6DE3C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5796000" y="618480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MILANO 5 MAGGI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Lombar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32306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Franco Lorenzini</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ea typeface="Arial"/>
              </a:rPr>
              <a:t>Dirigente del Servizio</a:t>
            </a:r>
            <a:br>
              <a:rPr sz="1100"/>
            </a:br>
            <a:r>
              <a:rPr b="0" lang="it-IT" sz="1100" spc="-1" strike="noStrike">
                <a:solidFill>
                  <a:srgbClr val="ffffff"/>
                </a:solidFill>
                <a:latin typeface="Arial"/>
                <a:ea typeface="Arial"/>
              </a:rPr>
              <a:t>delle rilevazioni per i censimenti economici</a:t>
            </a:r>
            <a:endParaRPr b="0" lang="en-US" sz="11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F106-1FAE-4C6A-8429-BB5F3CC7695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599C-E484-4221-960E-D607DD995FD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06FB-77A3-4E84-8021-EAFC816505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E86A-D8CD-4583-A2F9-0431AE7DC6D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A5CE-C3A5-4682-AB56-58128BC9599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788F-329B-474D-BCED-E03BBD50E53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1DA6-148D-46F8-9410-E267B18970A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238F-B38F-47D1-8CDC-B4A18D679E5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0197-773D-47AE-97CC-DA5D47D9DF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1C65-A05B-4906-98D3-DF4D5781F50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598D-C6A5-40E1-AF12-FE347EBD0A2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81EF-1661-43BC-BC22-6E1F829E2A0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5EED-5640-4E91-BAA4-821566859EC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5144-8617-49FB-8356-685D861892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451B-6B9D-4298-9F49-794D1F4B768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EF2B-8C62-4F09-B5AB-847A7F1D6FC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2362320" cy="12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FRANCO LORENZ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lorenzi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F622-085C-436F-ABD3-7775323B8B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5AD8-90B8-431E-B467-147A29CC7A4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E851-DB07-40CE-88BF-F61EEBE61D8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3336-AB3E-4568-BD9F-FC5693065A3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AD89-A604-4A7C-BDBB-6C7430BA54A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357C-E538-4253-8BA9-D20CFE3D1C1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A621-397F-4E95-BA1C-214070C9A55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6-06T14:28:03Z</dcterms:modified>
  <cp:revision>210</cp:revision>
  <dc:subject/>
  <dc:title>Presentazione di PowerPoint</dc:title>
</cp:coreProperties>
</file>