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5C3D-0FC9-4296-BDF9-35E42365414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D836-5635-48C1-A29B-C9D915A1C6B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E0BB748A-D4D5-4A66-A64F-CA74263EDCDE}" type="slidenum"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BE64-D14B-47CF-B614-8510E770A04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2CC-6E1E-45F0-AF16-27FDC09B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5C1-7B40-4A57-BE3D-E35071DD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FCD-8399-4552-9EA7-D36E3EBC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B4B-816A-47F1-82D0-470F8123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319-B9F1-476E-B3F2-E2CA5FD9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31E-2921-4F35-AF4D-0E9F9D48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FAD-B442-49DE-943B-E877EC2F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7BD-53AE-4DCD-A2A0-7B7B2811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908-F6A9-4419-9DB3-A53327B5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6B3-6524-41C7-8331-07D94513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8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D6C-ED42-48DB-834B-7C43D4D0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48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939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48960"/>
            <a:ext cx="264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39960"/>
            <a:ext cx="4015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48960"/>
            <a:ext cx="82296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154-2D5C-433F-9CCA-F9199160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87D5-84C3-42CF-B37E-358D3AE844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pi.it/index.php/amministrazione/item/2782-sistema-degli-obiettivi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hyperlink" Target="http://www.sistan.it/index.php?id=194" TargetMode="External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75840" y="2774880"/>
            <a:ext cx="7456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efe"/>
                </a:solidFill>
                <a:latin typeface="Verdana"/>
              </a:rPr>
              <a:t>Il ruolo dell’Istat per la statistica ufficiale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426360" y="195588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25 Febbraio 2014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8" name=""/>
          <p:cNvSpPr/>
          <p:nvPr/>
        </p:nvSpPr>
        <p:spPr>
          <a:xfrm>
            <a:off x="4368960" y="5740560"/>
            <a:ext cx="4622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Claudia Tinelli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Istat – Sede territoriale per la Toscana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3711600" y="927000"/>
            <a:ext cx="48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efe"/>
                </a:solidFill>
                <a:latin typeface="Verdana"/>
              </a:rPr>
              <a:t>L’Istat si trova a Roma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4419720" y="33051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05" name="Picture 7" descr="italia"/>
          <p:cNvPicPr/>
          <p:nvPr/>
        </p:nvPicPr>
        <p:blipFill>
          <a:blip r:embed="rId2"/>
          <a:stretch/>
        </p:blipFill>
        <p:spPr>
          <a:xfrm>
            <a:off x="665280" y="2550960"/>
            <a:ext cx="3543120" cy="34783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2"/>
          <p:cNvSpPr/>
          <p:nvPr/>
        </p:nvSpPr>
        <p:spPr>
          <a:xfrm>
            <a:off x="4813200" y="3924360"/>
            <a:ext cx="3505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Dal 1995 sono stati aperti presso gli uffici territoriali dell'Istat i Centri d'informazione statistica che assistono tutti i livelli di utenza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4343400" y="1892160"/>
            <a:ext cx="436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Nel 1966 con la legge n. 628 sono stati istituiti gli uffici di corrispondenza regionali ora uffici territoriali Istat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4"/>
          <p:cNvSpPr/>
          <p:nvPr/>
        </p:nvSpPr>
        <p:spPr>
          <a:xfrm>
            <a:off x="1684440" y="2565360"/>
            <a:ext cx="35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A CHE COSA SERVE L’ISTAT 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09" name="Picture 3" descr="ANd9GcQJWdCAhHbfBsQuT_V_cLjngmnVaoRqNcNFbXgawnyPme6JMSXaXg"/>
          <p:cNvPicPr/>
          <p:nvPr/>
        </p:nvPicPr>
        <p:blipFill>
          <a:blip r:embed="rId2"/>
          <a:stretch/>
        </p:blipFill>
        <p:spPr>
          <a:xfrm>
            <a:off x="4965840" y="23796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efe"/>
                </a:solidFill>
                <a:latin typeface="Verdana"/>
              </a:rPr>
              <a:t>La missione dell’Istat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3387600" y="1181160"/>
            <a:ext cx="5459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20efe"/>
                </a:solidFill>
                <a:latin typeface="Verdana"/>
              </a:rPr>
              <a:t>La missione dell'Istituto nazionale di statistica è: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20ef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20efe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020efe"/>
                </a:solidFill>
                <a:latin typeface="Verdana"/>
              </a:rPr>
              <a:t>di servire la collettività attraverso la produzione e la comunicazione di informazioni statistiche, analisi e previsioni di elevata qualità (devono essere realizzate in piena autonomia e sulla base di rigorosi principi etico-professionali e di più avanzati standard scientifici)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79320" y="4456080"/>
            <a:ext cx="790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efe"/>
                </a:solidFill>
                <a:latin typeface="Verdana"/>
              </a:rPr>
              <a:t>Lo scopo è: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20ef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efe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20efe"/>
                </a:solidFill>
                <a:latin typeface="Verdana"/>
              </a:rPr>
              <a:t>di sviluppare un'approfondita conoscenza della realtà ambientale, economica e sociale dell'Italia ai diversi livelli territoriali e favorire i processi decisionali di tutti i soggetti della società (cittadini, amministratori, ecc.)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13" name="Picture 3" descr="obiettiv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600" y="1327320"/>
            <a:ext cx="29764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1828800" y="1476360"/>
            <a:ext cx="4964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CHE DIFFERENZA ESISTE TRA L’ISTAT E UNA QUALSIASI SOCIETA’ DI SONDAGGI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15" name="Picture 3" descr="ANd9GcQJWdCAhHbfBsQuT_V_cLjngmnVaoRqNcNFbXgawnyPme6JMSXaXg"/>
          <p:cNvPicPr/>
          <p:nvPr/>
        </p:nvPicPr>
        <p:blipFill>
          <a:blip r:embed="rId2"/>
          <a:stretch/>
        </p:blipFill>
        <p:spPr>
          <a:xfrm>
            <a:off x="5732640" y="28036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566640" y="1601640"/>
            <a:ext cx="75837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L'Istituto nazionale di statistica è un ente di ricerca pubblico, principale produttore di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statistica ufficiale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17" name="Picture 4" descr="ANd9GcS5RzRR1sfNiG7ehPJ8vHsJXPNqHUorF6I3vuSksji5PuKMo2uQ"/>
          <p:cNvPicPr/>
          <p:nvPr/>
        </p:nvPicPr>
        <p:blipFill>
          <a:blip r:embed="rId2"/>
          <a:stretch/>
        </p:blipFill>
        <p:spPr>
          <a:xfrm>
            <a:off x="0" y="5075280"/>
            <a:ext cx="259704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1176480" y="3571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efe"/>
                </a:solidFill>
                <a:latin typeface="Verdana"/>
              </a:rPr>
              <a:t>La statistica ufficiale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19" name="Picture 26" descr="ANd9GcR2v_2zKcPSV0IVho34Iyzoa1CafPfPNc-q-IB5IlEnNVInBmS3"/>
          <p:cNvPicPr/>
          <p:nvPr/>
        </p:nvPicPr>
        <p:blipFill>
          <a:blip r:embed="rId2"/>
          <a:stretch/>
        </p:blipFill>
        <p:spPr>
          <a:xfrm>
            <a:off x="6599160" y="896760"/>
            <a:ext cx="2143080" cy="2143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82760" y="1003320"/>
            <a:ext cx="63752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La statistica ufficiale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è un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ene pubblico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La statistica ufficiale è contenuta nel Programma Statistico Nazionale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La statistica ufficiale è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trumento di democrazia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e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upporto indispensabile per decisioni razionali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6" descr="ANd9GcR3x3A-sTz-yLRY-rN_7k6uMyoup7bt_s-V-i41V_GU8rh22z88"/>
          <p:cNvPicPr/>
          <p:nvPr/>
        </p:nvPicPr>
        <p:blipFill>
          <a:blip r:embed="rId2"/>
          <a:stretch/>
        </p:blipFill>
        <p:spPr>
          <a:xfrm>
            <a:off x="5156280" y="336600"/>
            <a:ext cx="3362400" cy="1361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login_logo_image"/>
          <p:cNvPicPr/>
          <p:nvPr/>
        </p:nvPicPr>
        <p:blipFill>
          <a:blip r:embed="rId3"/>
          <a:stretch/>
        </p:blipFill>
        <p:spPr>
          <a:xfrm>
            <a:off x="771480" y="2556000"/>
            <a:ext cx="3594240" cy="32907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"/>
          <p:cNvSpPr/>
          <p:nvPr/>
        </p:nvSpPr>
        <p:spPr>
          <a:xfrm>
            <a:off x="4673520" y="2558880"/>
            <a:ext cx="376704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20efe"/>
                </a:solidFill>
                <a:latin typeface="Verdana"/>
              </a:rPr>
              <a:t>Il Sistema statistico nazionale (Sistan) è la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rete di soggetti pubblici e privati</a:t>
            </a:r>
            <a:r>
              <a:rPr b="1" lang="it-IT" sz="1800" spc="-1" strike="noStrike">
                <a:solidFill>
                  <a:srgbClr val="020efe"/>
                </a:solidFill>
                <a:latin typeface="Verdana"/>
              </a:rPr>
              <a:t> che fornisce al Paese e agli organismi internazionali l'informazione statistica ufficiale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ANd9GcR3x3A-sTz-yLRY-rN_7k6uMyoup7bt_s-V-i41V_GU8rh22z88"/>
          <p:cNvPicPr/>
          <p:nvPr/>
        </p:nvPicPr>
        <p:blipFill>
          <a:blip r:embed="rId2"/>
          <a:stretch/>
        </p:blipFill>
        <p:spPr>
          <a:xfrm>
            <a:off x="5156280" y="336600"/>
            <a:ext cx="3362400" cy="1361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login_logo_image"/>
          <p:cNvPicPr/>
          <p:nvPr/>
        </p:nvPicPr>
        <p:blipFill>
          <a:blip r:embed="rId3"/>
          <a:stretch/>
        </p:blipFill>
        <p:spPr>
          <a:xfrm>
            <a:off x="593640" y="2200320"/>
            <a:ext cx="3594240" cy="329076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5"/>
          <p:cNvSpPr/>
          <p:nvPr/>
        </p:nvSpPr>
        <p:spPr>
          <a:xfrm>
            <a:off x="4492800" y="2158920"/>
            <a:ext cx="427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Risponde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ll’esigenza di inserire la funzione statistica in un “sistema” capace: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i far dialogare fra loro gli Enti che ne fanno parte ed armonizzarne le attività,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i dialogare a sua volta con gli altri “sistemi statistici” europei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435400" y="5423040"/>
            <a:ext cx="636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 diversi Enti passano da una condizione passiva ad un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ruolo attivo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ANd9GcR3x3A-sTz-yLRY-rN_7k6uMyoup7bt_s-V-i41V_GU8rh22z88"/>
          <p:cNvPicPr/>
          <p:nvPr/>
        </p:nvPicPr>
        <p:blipFill>
          <a:blip r:embed="rId2"/>
          <a:stretch/>
        </p:blipFill>
        <p:spPr>
          <a:xfrm>
            <a:off x="5156280" y="336600"/>
            <a:ext cx="3362400" cy="136188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4"/>
          <p:cNvSpPr/>
          <p:nvPr/>
        </p:nvSpPr>
        <p:spPr>
          <a:xfrm>
            <a:off x="4390920" y="2725560"/>
            <a:ext cx="427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a squadra è composta da: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3.465 ENTI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2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3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34" name="Picture 18" descr="C_2_ContenutoGenerico_2088_upiImageHPSezione"/>
          <p:cNvPicPr/>
          <p:nvPr/>
        </p:nvPicPr>
        <p:blipFill>
          <a:blip r:embed="rId3"/>
          <a:stretch/>
        </p:blipFill>
        <p:spPr>
          <a:xfrm>
            <a:off x="380880" y="2397240"/>
            <a:ext cx="33912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4"/>
          <p:cNvSpPr/>
          <p:nvPr/>
        </p:nvSpPr>
        <p:spPr>
          <a:xfrm>
            <a:off x="1249200" y="1521000"/>
            <a:ext cx="420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L’ISTAT PUO’ RICHIEDERE AI CITTADINI QUALSIASI COSA  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36" name="Picture 3" descr="ANd9GcQJWdCAhHbfBsQuT_V_cLjngmnVaoRqNcNFbXgawnyPme6JMSXaXg"/>
          <p:cNvPicPr/>
          <p:nvPr/>
        </p:nvPicPr>
        <p:blipFill>
          <a:blip r:embed="rId2"/>
          <a:stretch/>
        </p:blipFill>
        <p:spPr>
          <a:xfrm>
            <a:off x="4689360" y="2671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1684440" y="2565360"/>
            <a:ext cx="338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COSA SI INTENDE PER STATISTICA  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80" name="Picture 8" descr="ANd9GcQJWdCAhHbfBsQuT_V_cLjngmnVaoRqNcNFbXgawnyPme6JMSXaXg"/>
          <p:cNvPicPr/>
          <p:nvPr/>
        </p:nvPicPr>
        <p:blipFill>
          <a:blip r:embed="rId2"/>
          <a:stretch/>
        </p:blipFill>
        <p:spPr>
          <a:xfrm>
            <a:off x="4978440" y="2846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985680" y="2071800"/>
            <a:ext cx="722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20efe"/>
                </a:solidFill>
                <a:latin typeface="Verdana"/>
              </a:rPr>
              <a:t>SI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SULLA BASE DI QUANTO 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STABILITO NEL 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PROGRAMMA STATISTICO NAZIONALE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38" name="Picture 4" descr="copertina_psn"/>
          <p:cNvPicPr/>
          <p:nvPr/>
        </p:nvPicPr>
        <p:blipFill>
          <a:blip r:embed="rId2"/>
          <a:stretch/>
        </p:blipFill>
        <p:spPr>
          <a:xfrm>
            <a:off x="6311880" y="355680"/>
            <a:ext cx="16286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efe"/>
                </a:solidFill>
                <a:latin typeface="Verdana"/>
              </a:rPr>
              <a:t>Programma Statistico Nazionale (PSN)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78000" y="1087560"/>
            <a:ext cx="70977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efe"/>
                </a:solidFill>
                <a:latin typeface="Verdana"/>
              </a:rPr>
              <a:t>Il Programma statistico nazionale (PSN) è l'atto normativo che stabilisce: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ef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efe"/>
                </a:solidFill>
                <a:latin typeface="Verdana"/>
              </a:rPr>
              <a:t>le rilevazioni statistiche di interesse pubblico affidate al Sistema statistico nazionale (SISTAN) e i relativi obiettivi informativi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41" name="Picture 5" descr="copertina_psn"/>
          <p:cNvPicPr/>
          <p:nvPr/>
        </p:nvPicPr>
        <p:blipFill>
          <a:blip r:embed="rId2"/>
          <a:stretch/>
        </p:blipFill>
        <p:spPr>
          <a:xfrm>
            <a:off x="0" y="4572000"/>
            <a:ext cx="162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9440" y="417600"/>
            <a:ext cx="796284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Tipologie di processi oggetto di programmazione</a:t>
            </a:r>
            <a:r>
              <a:rPr b="1" lang="en-US" sz="2000" spc="-1" strike="noStrike">
                <a:solidFill>
                  <a:srgbClr val="020efe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730080" y="1895400"/>
            <a:ext cx="818532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Rilevazioni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, cioè raccolte di dati presso imprese, istituzioni e persone fisiche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Elaborazioni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, cioè trattamenti di dati statistici derivanti da precedenti rilevazioni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Studi progettuali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, cioè analisi e ricerca finalizzate all’impianto e/o sviluppo di strumenti per l’attività statistica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44" name="Picture 5" descr="copertina_psn"/>
          <p:cNvPicPr/>
          <p:nvPr/>
        </p:nvPicPr>
        <p:blipFill>
          <a:blip r:embed="rId2"/>
          <a:stretch/>
        </p:blipFill>
        <p:spPr>
          <a:xfrm>
            <a:off x="6324480" y="4686480"/>
            <a:ext cx="154800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711360" y="116856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Il </a:t>
            </a: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Programma statistico nazionale</a:t>
            </a: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 individua i seguenti processi che i soggetti del Sistan dovranno realizzare: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ttori del PSN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347" name="Picture 5" descr="copertina_psn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21718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89000" y="1276200"/>
            <a:ext cx="4802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mbiente e territorio</a:t>
            </a: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9" name=""/>
          <p:cNvSpPr/>
          <p:nvPr/>
        </p:nvSpPr>
        <p:spPr>
          <a:xfrm>
            <a:off x="5037120" y="3672000"/>
            <a:ext cx="7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627120" y="2155680"/>
            <a:ext cx="2924280" cy="15624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01600" y="423864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Popolazione e famiglia; condizioni di vita e partecipazione sociale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4884840" y="484992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ttori del PSN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354" name="Picture 5" descr="copertina_psn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21718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66640" y="1351080"/>
            <a:ext cx="61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alute, sanità e assistenza sociale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6" name=""/>
          <p:cNvSpPr/>
          <p:nvPr/>
        </p:nvSpPr>
        <p:spPr>
          <a:xfrm>
            <a:off x="5037120" y="3672000"/>
            <a:ext cx="7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7" name=""/>
          <p:cNvSpPr/>
          <p:nvPr/>
        </p:nvSpPr>
        <p:spPr>
          <a:xfrm>
            <a:off x="434880" y="4557600"/>
            <a:ext cx="78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struzione, formazione, cultura e attività ricreativa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4462560" y="4971960"/>
            <a:ext cx="2685960" cy="17049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849240" y="225252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ttori del PSN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361" name="Picture 5" descr="copertina_psn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21718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68160" y="901800"/>
            <a:ext cx="65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avoro e sistemi dei trasferimenti monetari, previdenziali e assistenziali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3" name=""/>
          <p:cNvSpPr/>
          <p:nvPr/>
        </p:nvSpPr>
        <p:spPr>
          <a:xfrm>
            <a:off x="5037120" y="3672000"/>
            <a:ext cx="7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4" name=""/>
          <p:cNvSpPr/>
          <p:nvPr/>
        </p:nvSpPr>
        <p:spPr>
          <a:xfrm>
            <a:off x="320760" y="5122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Giustizia e sicurezza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1411200" y="2111400"/>
            <a:ext cx="2079720" cy="21430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5105520" y="488952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ttori del PSN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368" name="Picture 5" descr="copertina_psn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21718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52600" y="66816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gricoltura, foreste e pesca</a:t>
            </a:r>
            <a:r>
              <a:rPr b="1" lang="en-US" sz="18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0" name=""/>
          <p:cNvSpPr/>
          <p:nvPr/>
        </p:nvSpPr>
        <p:spPr>
          <a:xfrm>
            <a:off x="5037120" y="3672000"/>
            <a:ext cx="7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1" name=""/>
          <p:cNvSpPr/>
          <p:nvPr/>
        </p:nvSpPr>
        <p:spPr>
          <a:xfrm>
            <a:off x="334800" y="4324320"/>
            <a:ext cx="59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Pubblica amministrazione e istituzioni private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395280" y="1292400"/>
            <a:ext cx="6553080" cy="25048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6183360" y="4060800"/>
            <a:ext cx="2609640" cy="1752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60280" y="5891040"/>
            <a:ext cx="59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Conti nazionali e territoriali; statistiche sui prezzi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ttori del PSN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376" name="Picture 5" descr="copertina_psn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21718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68160" y="901800"/>
            <a:ext cx="65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ndustria, costruzioni e servizi: statistiche strutturali e trasversali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8" name=""/>
          <p:cNvSpPr/>
          <p:nvPr/>
        </p:nvSpPr>
        <p:spPr>
          <a:xfrm>
            <a:off x="5037120" y="3672000"/>
            <a:ext cx="7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9" name=""/>
          <p:cNvSpPr/>
          <p:nvPr/>
        </p:nvSpPr>
        <p:spPr>
          <a:xfrm>
            <a:off x="566640" y="4384800"/>
            <a:ext cx="77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ndustria, costruzioni e servizi: statistiche settoriali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2625840" y="1755720"/>
            <a:ext cx="304776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379520" y="2100240"/>
            <a:ext cx="383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POSSIAMO NON RISPONDERE ALL’ISTAT 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82" name="Picture 3" descr="ANd9GcQJWdCAhHbfBsQuT_V_cLjngmnVaoRqNcNFbXgawnyPme6JMSXaXg"/>
          <p:cNvPicPr/>
          <p:nvPr/>
        </p:nvPicPr>
        <p:blipFill>
          <a:blip r:embed="rId2"/>
          <a:stretch/>
        </p:blipFill>
        <p:spPr>
          <a:xfrm>
            <a:off x="5110200" y="2441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1541520" y="2887560"/>
            <a:ext cx="57783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DI NORMA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20efe"/>
                </a:solidFill>
                <a:latin typeface="Verdana"/>
              </a:rPr>
              <a:t>NO</a:t>
            </a:r>
            <a:endParaRPr b="1" lang="en-US" sz="6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5873760" y="61740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2"/>
          <a:srcRect l="22138" t="22917" r="31419" b="35448"/>
          <a:stretch/>
        </p:blipFill>
        <p:spPr>
          <a:xfrm>
            <a:off x="717480" y="601560"/>
            <a:ext cx="774540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Obbligo di risposta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54120" y="832320"/>
            <a:ext cx="7858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L'obbligo di fornire dati statistici per i lavori previsti dal Programma statistico nazionale è previsto nell'art. 7 del d.lgs n. 322 del 1989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L'obbligo riguarda tutte le amministrazioni, enti e organismi pubblici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627120" y="3057480"/>
            <a:ext cx="74754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All'obbligo sono sottoposti anche </a:t>
            </a: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i soggetti privati</a:t>
            </a:r>
            <a:r>
              <a:rPr b="0" lang="it-IT" sz="2000" spc="-1" strike="noStrike">
                <a:solidFill>
                  <a:srgbClr val="0000ff"/>
                </a:solidFill>
                <a:latin typeface="Verdana"/>
              </a:rPr>
              <a:t> limitatamente alle rilevazioni previste nel Psn e inserite in un elenco che l'Istat è tenuto a predisporre e a trasmettere ai fini della pubblicazione con d.p.r. sulla Gazzetta Ufficiale, previa approvazione da parte della Presidenza del Consiglio dei Ministri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328680" y="50101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31640" y="6350040"/>
            <a:ext cx="2324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PARTECIPARE È UN DOVERE</a:t>
            </a:r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Obbligo di risposta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773280" y="1632600"/>
            <a:ext cx="78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Non sussiste per i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DATI SENSIBILI: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967320" y="2762280"/>
            <a:ext cx="69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dati personali idonei a rivelare l’origine razziale ed etnica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924120" y="3327480"/>
            <a:ext cx="60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onvinzioni religiose, filosofiche o di altro genere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777960" y="382104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pinioni politiche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689040" y="4319640"/>
            <a:ext cx="776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desione a partiti, sindacati, associazioni od organizzazioni a carattere religioso, filosofico, politico o sindacale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685800" y="5126040"/>
            <a:ext cx="763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 dati personali idonei a rivelare lo stato di salute e la vita sessuale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97" name="Picture 12" descr="ANd9GcRTT0OWbRU7Tbp_fujJYh6v1uJn_5Q3W-fJiPFxOo6MVdUqs9jJnA"/>
          <p:cNvPicPr/>
          <p:nvPr/>
        </p:nvPicPr>
        <p:blipFill>
          <a:blip r:embed="rId2"/>
          <a:stretch/>
        </p:blipFill>
        <p:spPr>
          <a:xfrm>
            <a:off x="6224760" y="488880"/>
            <a:ext cx="22381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1554120" y="2087640"/>
            <a:ext cx="397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CI POSSIAMO FIDARE DELL’ISTA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99" name="Picture 3" descr="ANd9GcQJWdCAhHbfBsQuT_V_cLjngmnVaoRqNcNFbXgawnyPme6JMSXaXg"/>
          <p:cNvPicPr/>
          <p:nvPr/>
        </p:nvPicPr>
        <p:blipFill>
          <a:blip r:embed="rId2"/>
          <a:stretch/>
        </p:blipFill>
        <p:spPr>
          <a:xfrm>
            <a:off x="5619600" y="206208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1541520" y="2887560"/>
            <a:ext cx="5778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ASSOLUTAMENTE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20efe"/>
                </a:solidFill>
                <a:latin typeface="Verdana"/>
              </a:rPr>
              <a:t>SI</a:t>
            </a:r>
            <a:endParaRPr b="1" lang="en-US" sz="6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6180120" y="173160"/>
            <a:ext cx="275112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1978200" y="324000"/>
            <a:ext cx="4906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0" y="614520"/>
            <a:ext cx="1547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482760" y="3859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  <a:ea typeface="Arial"/>
              </a:rPr>
              <a:t>Tutela della riservatezza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717480" y="1297080"/>
            <a:ext cx="817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rt. 9 d.lgs. N. 322/1989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 dati raccolti nell’ambito di rilevazioni statistiche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non possono essere esternati se non in forma aggregata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, in modo che non sia possibile risalire ai soggetti che li hanno forniti o ai quali si riferiscono,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e possono essere utilizzati solo per scopi statistici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7" name=""/>
          <p:cNvSpPr/>
          <p:nvPr/>
        </p:nvSpPr>
        <p:spPr>
          <a:xfrm>
            <a:off x="4486320" y="4032720"/>
            <a:ext cx="390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La statistica ufficiale, deve tutelare i diritti, le libertà fondamentali e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la dignità dei rispondenti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, con particolare riguardo al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diritto alla riservatezza e all'identità personale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74840" y="4075200"/>
            <a:ext cx="27032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3"/>
          <p:cNvSpPr/>
          <p:nvPr/>
        </p:nvSpPr>
        <p:spPr>
          <a:xfrm>
            <a:off x="2011320" y="2801880"/>
            <a:ext cx="52783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efe"/>
                </a:solidFill>
                <a:latin typeface="Verdana"/>
              </a:rPr>
              <a:t>La conoscenza è potere 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efe"/>
                </a:solidFill>
                <a:latin typeface="Verdana"/>
              </a:rPr>
              <a:t>(Francis Bacon)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2011320" y="2801880"/>
            <a:ext cx="52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efe"/>
                </a:solidFill>
                <a:latin typeface="Verdana"/>
              </a:rPr>
              <a:t>Grazie!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efe"/>
                </a:solidFill>
                <a:latin typeface="Verdana"/>
              </a:rPr>
              <a:t>La statistica e i suoi significati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843120" y="1366920"/>
            <a:ext cx="77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20ef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efe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20efe"/>
                </a:solidFill>
                <a:latin typeface="Verdana"/>
              </a:rPr>
              <a:t>Statistica designa la scienza che permette di trarre informazioni attendibili dall'osservazione di fenomeni di massa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84" name="Picture 9" descr="ANd9GcRQm3LchYsLWO2L8g7pzT_kMqVRI4sjK_FgDyfqoAKMmSZjXX1Y"/>
          <p:cNvPicPr/>
          <p:nvPr/>
        </p:nvPicPr>
        <p:blipFill>
          <a:blip r:embed="rId2"/>
          <a:stretch/>
        </p:blipFill>
        <p:spPr>
          <a:xfrm>
            <a:off x="6553080" y="2070000"/>
            <a:ext cx="2419560" cy="18860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3"/>
          <p:cNvSpPr/>
          <p:nvPr/>
        </p:nvSpPr>
        <p:spPr>
          <a:xfrm>
            <a:off x="844560" y="2755800"/>
            <a:ext cx="614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20ef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efe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20efe"/>
                </a:solidFill>
                <a:latin typeface="Verdana"/>
              </a:rPr>
              <a:t>Le informazioni statistiche sono uno strumento efficace, che permette di rappresentare in modo comprensibile situazioni complesse, e di fare dei confronti tra varie regioni e varie epoche.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efe"/>
                </a:solidFill>
                <a:latin typeface="Verdana"/>
              </a:rPr>
              <a:t>Una cifra, un indicatore statistico esprimono situazioni ed evoluzioni in modo rapido e pregnante - a prescindere dai confini politici e linguistici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86" name="Picture 7" descr="ANd9GcSoJnuik2X4tZvU9CNgH_6gquvCsdXbboqwbVNMA_y9COT-5N7l"/>
          <p:cNvPicPr/>
          <p:nvPr/>
        </p:nvPicPr>
        <p:blipFill>
          <a:blip r:embed="rId3"/>
          <a:stretch/>
        </p:blipFill>
        <p:spPr>
          <a:xfrm>
            <a:off x="6110280" y="5048280"/>
            <a:ext cx="172080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1625760" y="2579760"/>
            <a:ext cx="33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QUANTI ANNI 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HA L’ISTAT  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88" name="Picture 3" descr="ANd9GcQJWdCAhHbfBsQuT_V_cLjngmnVaoRqNcNFbXgawnyPme6JMSXaXg"/>
          <p:cNvPicPr/>
          <p:nvPr/>
        </p:nvPicPr>
        <p:blipFill>
          <a:blip r:embed="rId2"/>
          <a:stretch/>
        </p:blipFill>
        <p:spPr>
          <a:xfrm>
            <a:off x="4906800" y="238284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1684440" y="2565360"/>
            <a:ext cx="60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20efe"/>
                </a:solidFill>
                <a:latin typeface="Verdana"/>
              </a:rPr>
              <a:t>88</a:t>
            </a:r>
            <a:endParaRPr b="1" lang="en-US" sz="7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90" name="Picture 38" descr="Logo-ISTAT1"/>
          <p:cNvPicPr/>
          <p:nvPr/>
        </p:nvPicPr>
        <p:blipFill>
          <a:blip r:embed="rId2"/>
          <a:stretch/>
        </p:blipFill>
        <p:spPr>
          <a:xfrm>
            <a:off x="5467320" y="520560"/>
            <a:ext cx="2878200" cy="21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efe"/>
                </a:solidFill>
                <a:latin typeface="Verdana"/>
              </a:rPr>
              <a:t>Cenni storici: situazione italiana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292" name="Picture 7" descr="127201222042a"/>
          <p:cNvPicPr/>
          <p:nvPr/>
        </p:nvPicPr>
        <p:blipFill>
          <a:blip r:embed="rId2"/>
          <a:stretch/>
        </p:blipFill>
        <p:spPr>
          <a:xfrm>
            <a:off x="2833560" y="350352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7"/>
          <p:cNvSpPr/>
          <p:nvPr/>
        </p:nvSpPr>
        <p:spPr>
          <a:xfrm>
            <a:off x="1498680" y="965160"/>
            <a:ext cx="689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efe"/>
                </a:solidFill>
                <a:latin typeface="Verdana"/>
              </a:rPr>
              <a:t>Nel 1926, con la legge n.1162 viene istituito l'Istituto centrale di statistica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efe"/>
                </a:solidFill>
                <a:latin typeface="Verdana"/>
              </a:rPr>
              <a:t>Si matura la convinzione che sia importante concentrare tutte le indagini presso un unico organo indipendente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efe"/>
                </a:solidFill>
                <a:latin typeface="Verdana"/>
              </a:rPr>
              <a:t>Cenni storici: situazione italiana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973080" y="265752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efe"/>
                </a:solidFill>
                <a:latin typeface="Verdana"/>
              </a:rPr>
              <a:t>Nel 1989 il decreto legislativo n.322 detta le norme per la costituzione del Sistema statistico nazionale SISTAN, che pone l'utente al centro dell'attività di produzione statistica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995400" y="4489560"/>
            <a:ext cx="75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efe"/>
                </a:solidFill>
                <a:latin typeface="Verdana"/>
              </a:rPr>
              <a:t>L‘Istituto, divenuto Istituto nazionale di statistica ISTAT, ha compiti di indirizzo e coordinamento dell'intera struttura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4419720" y="33051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99" name="Picture 9" descr="ANd9GcRS01YhmfVukLHlUmr7roQwsHkncBtKAKIyi0xKklSlEbjBPBo8"/>
          <p:cNvPicPr/>
          <p:nvPr/>
        </p:nvPicPr>
        <p:blipFill>
          <a:blip r:embed="rId2"/>
          <a:stretch/>
        </p:blipFill>
        <p:spPr>
          <a:xfrm>
            <a:off x="5118120" y="1073160"/>
            <a:ext cx="33814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1422360" y="2565360"/>
            <a:ext cx="317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efe"/>
                </a:solidFill>
                <a:latin typeface="Verdana"/>
              </a:rPr>
              <a:t>DOVE SI TROVA L’ISTA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01" name="Picture 3" descr="ANd9GcQJWdCAhHbfBsQuT_V_cLjngmnVaoRqNcNFbXgawnyPme6JMSXaXg"/>
          <p:cNvPicPr/>
          <p:nvPr/>
        </p:nvPicPr>
        <p:blipFill>
          <a:blip r:embed="rId2"/>
          <a:stretch/>
        </p:blipFill>
        <p:spPr>
          <a:xfrm>
            <a:off x="3932280" y="2438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18:04:12Z</dcterms:created>
  <dc:creator>Silvia</dc:creator>
  <dc:description/>
  <dc:language>en-US</dc:language>
  <cp:lastModifiedBy>istat</cp:lastModifiedBy>
  <dcterms:modified xsi:type="dcterms:W3CDTF">2014-03-03T11:49:22Z</dcterms:modified>
  <cp:revision>159</cp:revision>
  <dc:subject/>
  <dc:title>TABELLE DI FREQUENZE</dc:title>
</cp:coreProperties>
</file>