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B9A-D527-4000-932C-25A0BC2F43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AFA7-F623-4562-966D-66A7A802BD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A4B340C-81EC-489C-B786-170E93AC2A9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13360" cy="37594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olazione legale definita con decreto del Presidente del consiglio dei ministri e resta tale fino al censimento succes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polazione lega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finita ogni dieci anni in occasione del censimento generale della popolazione pubblicata sulla G.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173-26C6-4FE0-872E-1DBE2C1B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596-0E19-48D5-A4AA-BD05D092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32C-38B2-4A8E-A1B5-DEF80CD9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E39-DBA6-4412-8DF2-E5E48AA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0A8-8266-447B-8FB9-3F35A17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394-B860-4FF8-A4E9-AADCE0DA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72D-81D9-4B85-B664-F19B29A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9E-62DF-4511-BD99-32D9507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A18-4756-4A7B-B647-6F5170F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A2B-6400-44C9-A354-5D47587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135-2911-4612-BF0C-49D79FC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A68-6A77-4F27-B685-F193935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885-98C1-4F40-A820-0E8714F7D9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969840" y="2882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Il Censimento della Popolazione e il calcolo della popolazion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8118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Rockwell"/>
                <a:ea typeface="Arial"/>
              </a:rPr>
              <a:t>Andrea Brancatell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Rockwell"/>
                <a:ea typeface="Arial"/>
              </a:rPr>
              <a:t>ISTAT - Sede Territoriale per la Toscan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886040" y="1670040"/>
            <a:ext cx="69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Verdana"/>
              </a:rPr>
              <a:t>25 febbraio 2014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08000" y="2937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Il Censimento della Popolazione …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…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a cosa serve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8304120" y="115920"/>
            <a:ext cx="660600" cy="16002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250920" y="3855960"/>
            <a:ext cx="72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a rappresentare la popolazione secondo le principali caratteristiche demografiche e sociali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50920" y="2276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a </a:t>
            </a:r>
            <a:r>
              <a:rPr b="1" i="1" lang="en-US" sz="2800" spc="-1" strike="noStrike">
                <a:solidFill>
                  <a:srgbClr val="cc0000"/>
                </a:solidFill>
                <a:latin typeface="Rockwell"/>
              </a:rPr>
              <a:t>”contare”</a:t>
            </a: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 quante sono le persone che abitano in Italia …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50920" y="22622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50920" y="38466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Rockwell"/>
              </a:rPr>
              <a:t>2)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740720" y="219708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7885080" y="3862440"/>
            <a:ext cx="97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Nuvola 4"/>
          <p:cNvSpPr/>
          <p:nvPr/>
        </p:nvSpPr>
        <p:spPr>
          <a:xfrm>
            <a:off x="250920" y="2548080"/>
            <a:ext cx="5905440" cy="2663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08000" y="293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Rockwell"/>
              </a:rPr>
              <a:t>… </a:t>
            </a:r>
            <a:r>
              <a:rPr b="1" lang="en-US" sz="3600" spc="-1" strike="noStrike">
                <a:solidFill>
                  <a:srgbClr val="990000"/>
                </a:solidFill>
                <a:latin typeface="Rockwell"/>
              </a:rPr>
              <a:t>quale è la data di riferimento del Censimento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25520" y="3238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Rockwell"/>
              </a:rPr>
              <a:t>La data di riferimento del Censimento è il 9 ottobre 2011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316560" y="2352600"/>
            <a:ext cx="2519640" cy="3438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621560" y="100080"/>
            <a:ext cx="1414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8"/>
          <p:cNvSpPr/>
          <p:nvPr/>
        </p:nvSpPr>
        <p:spPr>
          <a:xfrm>
            <a:off x="324000" y="293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… </a:t>
            </a: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perché il Censimento è molto importante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341440" y="3159000"/>
            <a:ext cx="4318200" cy="2575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341" name="Text Box 8"/>
          <p:cNvSpPr/>
          <p:nvPr/>
        </p:nvSpPr>
        <p:spPr>
          <a:xfrm>
            <a:off x="1835280" y="58831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2.617.175 abitanti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8002440" y="115920"/>
            <a:ext cx="1033560" cy="1601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"/>
          <p:cNvSpPr/>
          <p:nvPr/>
        </p:nvSpPr>
        <p:spPr>
          <a:xfrm>
            <a:off x="108000" y="17334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perché definisce la </a:t>
            </a:r>
            <a:r>
              <a:rPr b="1" i="1" lang="en-US" sz="3600" spc="-1" strike="noStrike">
                <a:solidFill>
                  <a:srgbClr val="ff0000"/>
                </a:solidFill>
                <a:latin typeface="Rockwell"/>
              </a:rPr>
              <a:t>Popolazione Legale</a:t>
            </a: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 per ogni Comune d’Itali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14520" y="3218040"/>
            <a:ext cx="4317840" cy="3163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345" name="Text Box 8"/>
          <p:cNvSpPr/>
          <p:nvPr/>
        </p:nvSpPr>
        <p:spPr>
          <a:xfrm>
            <a:off x="5581800" y="41832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Rockwell"/>
              </a:rPr>
              <a:t>1.242.123 abitanti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8002440" y="115920"/>
            <a:ext cx="1033560" cy="16016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>
            <a:off x="108000" y="17334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perché definisce la </a:t>
            </a:r>
            <a:r>
              <a:rPr b="1" i="1" lang="en-US" sz="3600" spc="-1" strike="noStrike">
                <a:solidFill>
                  <a:srgbClr val="ff0000"/>
                </a:solidFill>
                <a:latin typeface="Rockwell"/>
              </a:rPr>
              <a:t>Popolazione Legale</a:t>
            </a: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 per ogni Comune d’Itali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324000" y="293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… </a:t>
            </a: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perché il Censimento è molto importante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025640" y="3171960"/>
            <a:ext cx="7094520" cy="2562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350" name="Text Box 8"/>
          <p:cNvSpPr/>
          <p:nvPr/>
        </p:nvSpPr>
        <p:spPr>
          <a:xfrm>
            <a:off x="1979640" y="58831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Rockwell"/>
              </a:rPr>
              <a:t>358.079 abitanti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08000" y="17334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perché definisce la </a:t>
            </a:r>
            <a:r>
              <a:rPr b="1" i="1" lang="en-US" sz="3600" spc="-1" strike="noStrike">
                <a:solidFill>
                  <a:srgbClr val="ff0000"/>
                </a:solidFill>
                <a:latin typeface="Rockwell"/>
              </a:rPr>
              <a:t>Popolazione Legale</a:t>
            </a: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 per ogni Comune d’Itali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8002440" y="115920"/>
            <a:ext cx="1033560" cy="16016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324000" y="293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… </a:t>
            </a:r>
            <a:r>
              <a:rPr b="1" lang="en-US" sz="3600" spc="-1" strike="noStrike">
                <a:solidFill>
                  <a:srgbClr val="0066ff"/>
                </a:solidFill>
                <a:latin typeface="Rockwell"/>
              </a:rPr>
              <a:t>perché il Censimento è molto importante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678200" cy="56736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8"/>
          <p:cNvSpPr/>
          <p:nvPr/>
        </p:nvSpPr>
        <p:spPr>
          <a:xfrm>
            <a:off x="3957480" y="2421000"/>
            <a:ext cx="51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14° Censimento </a:t>
            </a:r>
            <a:r>
              <a:rPr b="1" lang="en-US" sz="2200" spc="-1" strike="noStrike">
                <a:solidFill>
                  <a:srgbClr val="cc0000"/>
                </a:solidFill>
                <a:latin typeface="Rockwell"/>
              </a:rPr>
              <a:t>2001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1" lang="en-US" sz="2200" spc="-1" strike="noStrike">
                <a:solidFill>
                  <a:srgbClr val="0066ff"/>
                </a:solidFill>
                <a:latin typeface="Rockwell"/>
              </a:rPr>
              <a:t>56.995.744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957480" y="2987640"/>
            <a:ext cx="51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15° Censimento </a:t>
            </a:r>
            <a:r>
              <a:rPr b="1" lang="en-US" sz="2200" spc="-1" strike="noStrike">
                <a:solidFill>
                  <a:srgbClr val="cc0000"/>
                </a:solidFill>
                <a:latin typeface="Rockwell"/>
              </a:rPr>
              <a:t>2011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1" lang="en-US" sz="2200" spc="-1" strike="noStrike">
                <a:solidFill>
                  <a:srgbClr val="0066ff"/>
                </a:solidFill>
                <a:latin typeface="Rockwell"/>
              </a:rPr>
              <a:t>59.433.744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898560" y="114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Rockwell"/>
              </a:rPr>
              <a:t>L’Italia ai Censimenti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957480" y="1273320"/>
            <a:ext cx="51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1° Censimento </a:t>
            </a:r>
            <a:r>
              <a:rPr b="1" lang="en-US" sz="2200" spc="-1" strike="noStrike">
                <a:solidFill>
                  <a:srgbClr val="cc0000"/>
                </a:solidFill>
                <a:latin typeface="Rockwell"/>
              </a:rPr>
              <a:t>1861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1" lang="en-US" sz="2200" spc="-1" strike="noStrike">
                <a:solidFill>
                  <a:srgbClr val="0066ff"/>
                </a:solidFill>
                <a:latin typeface="Rockwell"/>
              </a:rPr>
              <a:t>22.182.377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957480" y="1849320"/>
            <a:ext cx="51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5° Censimento </a:t>
            </a:r>
            <a:r>
              <a:rPr b="1" lang="en-US" sz="2200" spc="-1" strike="noStrike">
                <a:solidFill>
                  <a:srgbClr val="cc0000"/>
                </a:solidFill>
                <a:latin typeface="Rockwell"/>
              </a:rPr>
              <a:t>1911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1" lang="en-US" sz="2200" spc="-1" strike="noStrike">
                <a:solidFill>
                  <a:srgbClr val="0066ff"/>
                </a:solidFill>
                <a:latin typeface="Rockwell"/>
              </a:rPr>
              <a:t>35.845.048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5427720" y="1054080"/>
            <a:ext cx="3672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Massa-Carrara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199.650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Lucca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388.327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Pistoia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287.866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Firenze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973.145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Prato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245.916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Livorno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335.247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Pisa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411.190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Arezzo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343.676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Siena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266.621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Grosseto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006699"/>
                </a:solidFill>
                <a:latin typeface="Rockwell"/>
              </a:rPr>
              <a:t>    220.564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Rockwell"/>
              </a:rPr>
              <a:t>TOSCANA</a:t>
            </a:r>
            <a:r>
              <a:rPr b="1" lang="it-IT" sz="2000" spc="-1" strike="noStrike">
                <a:solidFill>
                  <a:srgbClr val="cc0000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Rockwell"/>
              </a:rPr>
              <a:t>3.672.202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5038560" cy="55753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898560" y="114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Rockwell"/>
              </a:rPr>
              <a:t>Il Censimento 2011 in Toscan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8"/>
          <p:cNvSpPr/>
          <p:nvPr/>
        </p:nvSpPr>
        <p:spPr>
          <a:xfrm>
            <a:off x="898560" y="114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Rockwell"/>
              </a:rPr>
              <a:t>I Comuni della Provincia di Pis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5576760" y="2189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Rockwell"/>
              </a:rPr>
              <a:t>Pisa</a:t>
            </a:r>
            <a:r>
              <a:rPr b="1" lang="en-US" sz="2000" spc="-1" strike="noStrike">
                <a:solidFill>
                  <a:srgbClr val="ff33cc"/>
                </a:solidFill>
                <a:latin typeface="Rockwell"/>
              </a:rPr>
              <a:t>	</a:t>
            </a:r>
            <a:r>
              <a:rPr b="1" lang="en-US" sz="2000" spc="-1" strike="noStrike">
                <a:solidFill>
                  <a:srgbClr val="ff33cc"/>
                </a:solidFill>
                <a:latin typeface="Rockwell"/>
              </a:rPr>
              <a:t>85.858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5940360" y="1052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ff"/>
                </a:solidFill>
                <a:latin typeface="Rockwell"/>
              </a:rPr>
              <a:t>Comune di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ccff"/>
                </a:solidFill>
                <a:latin typeface="Rockwell"/>
              </a:rPr>
              <a:t>Crespina Lorenzana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5940360" y="424512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Rockwell"/>
              </a:rPr>
              <a:t>Comune di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Rockwell"/>
              </a:rPr>
              <a:t>Casciana Terme Lari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42920" y="909720"/>
            <a:ext cx="4311720" cy="5759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457360" y="2641680"/>
            <a:ext cx="1025640" cy="1179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301840" y="3556080"/>
            <a:ext cx="355680" cy="366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201680" y="1792440"/>
            <a:ext cx="1062000" cy="1376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2747880" y="2363760"/>
            <a:ext cx="824040" cy="590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H="1">
            <a:off x="2762280" y="1413000"/>
            <a:ext cx="3178080" cy="180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987640" y="3357360"/>
            <a:ext cx="2952720" cy="1150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5576760" y="346392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Rockwell"/>
              </a:rPr>
              <a:t>Pontedera</a:t>
            </a:r>
            <a:r>
              <a:rPr b="1" lang="en-US" sz="2000" spc="-1" strike="noStrike">
                <a:solidFill>
                  <a:srgbClr val="00cc66"/>
                </a:solidFill>
                <a:latin typeface="Rockwell"/>
              </a:rPr>
              <a:t>	</a:t>
            </a:r>
            <a:r>
              <a:rPr b="1" lang="en-US" sz="2000" spc="-1" strike="noStrike">
                <a:solidFill>
                  <a:srgbClr val="00cc66"/>
                </a:solidFill>
                <a:latin typeface="Rockwell"/>
              </a:rPr>
              <a:t>28.061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576760" y="28256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Rockwell"/>
              </a:rPr>
              <a:t>Orciano Pisano</a:t>
            </a:r>
            <a:r>
              <a:rPr b="1" lang="it-IT" sz="2000" spc="-1" strike="noStrike">
                <a:solidFill>
                  <a:srgbClr val="ff6600"/>
                </a:solidFill>
                <a:latin typeface="Rockwell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Rockwell"/>
              </a:rPr>
              <a:t>      635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11280" y="2996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"/>
                <a:ea typeface="Arial"/>
              </a:rPr>
              <a:t>Equazione della Popolazione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7" name="Titolo 1"/>
          <p:cNvSpPr/>
          <p:nvPr/>
        </p:nvSpPr>
        <p:spPr>
          <a:xfrm>
            <a:off x="252360" y="29376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  <a:ea typeface="Arial"/>
              </a:rPr>
              <a:t>…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  <a:ea typeface="Arial"/>
              </a:rPr>
              <a:t>ma come facciamo a tenere aggiornato il calcolo della popolazione?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8"/>
              <p:cNvSpPr txBox="1"/>
              <p:nvPr/>
            </p:nvSpPr>
            <p:spPr>
              <a:xfrm>
                <a:off x="1978200" y="3933720"/>
                <a:ext cx="5398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9" name="Picture 5" descr="IOFOLLA"/>
          <p:cNvPicPr/>
          <p:nvPr/>
        </p:nvPicPr>
        <p:blipFill>
          <a:blip r:embed="rId2"/>
          <a:stretch/>
        </p:blipFill>
        <p:spPr>
          <a:xfrm>
            <a:off x="7591320" y="836640"/>
            <a:ext cx="1301760" cy="1222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611280" y="19152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  <a:ea typeface="Arial"/>
              </a:rPr>
              <a:t>La </a:t>
            </a:r>
            <a:r>
              <a:rPr b="1" i="1" lang="en-US" sz="3200" spc="-1" strike="noStrike">
                <a:solidFill>
                  <a:srgbClr val="000000"/>
                </a:solidFill>
                <a:latin typeface="Rockwell"/>
                <a:ea typeface="Arial"/>
              </a:rPr>
              <a:t>popolazione calcolata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  <a:ea typeface="Arial"/>
              </a:rPr>
              <a:t> si ottiene attraverso la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367080" y="4753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Rockwell"/>
                <a:ea typeface="Arial"/>
              </a:rPr>
              <a:t>Saldo naturale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4473360" y="3882960"/>
            <a:ext cx="287280" cy="154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0320 h 1547640"/>
              <a:gd name="textAreaBottom" fmla="*/ 15073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6416640" y="3968640"/>
            <a:ext cx="287280" cy="1366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192640" y="4753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Rockwell"/>
                <a:ea typeface="Arial"/>
              </a:rPr>
              <a:t>Saldo migratori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5229360"/>
            <a:ext cx="1512720" cy="920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Rockwell"/>
              </a:rPr>
              <a:t>Popolazione Comune di Pontedera al 31.12.2013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54910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7" name=""/>
          <p:cNvSpPr/>
          <p:nvPr/>
        </p:nvSpPr>
        <p:spPr>
          <a:xfrm>
            <a:off x="2556000" y="5491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28.061   +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06920" y="5491800"/>
            <a:ext cx="2233440" cy="959400"/>
            <a:chOff x="3706920" y="5491800"/>
            <a:chExt cx="2233440" cy="959400"/>
          </a:xfrm>
        </p:grpSpPr>
        <p:sp>
          <p:nvSpPr>
            <p:cNvPr id="389" name="Text Box 3"/>
            <p:cNvSpPr/>
            <p:nvPr/>
          </p:nvSpPr>
          <p:spPr>
            <a:xfrm>
              <a:off x="3706920" y="5491800"/>
              <a:ext cx="22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 marL="3556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ff"/>
                  </a:solidFill>
                  <a:latin typeface="Rockwell"/>
                  <a:ea typeface="Arial"/>
                </a:rPr>
                <a:t>561 – 758</a:t>
              </a:r>
              <a:r>
                <a:rPr b="1" lang="en-US" sz="2000" spc="-1" strike="noStrike">
                  <a:solidFill>
                    <a:srgbClr val="ff0000"/>
                  </a:solidFill>
                  <a:latin typeface="Rockwell"/>
                  <a:ea typeface="Arial"/>
                </a:rPr>
                <a:t>     +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4491000" y="5453280"/>
              <a:ext cx="216000" cy="1079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1" name="Text Box 3"/>
            <p:cNvSpPr/>
            <p:nvPr/>
          </p:nvSpPr>
          <p:spPr>
            <a:xfrm>
              <a:off x="3843360" y="60523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 marL="3556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ff"/>
                  </a:solidFill>
                  <a:latin typeface="Rockwell"/>
                  <a:ea typeface="Arial"/>
                </a:rPr>
                <a:t>– </a:t>
              </a:r>
              <a:r>
                <a:rPr b="1" lang="en-US" sz="2000" spc="-1" strike="noStrike">
                  <a:solidFill>
                    <a:srgbClr val="cc00ff"/>
                  </a:solidFill>
                  <a:latin typeface="Rockwell"/>
                  <a:ea typeface="Arial"/>
                </a:rPr>
                <a:t>197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437080" y="5490360"/>
            <a:ext cx="3382920" cy="959040"/>
            <a:chOff x="5437080" y="5490360"/>
            <a:chExt cx="3382920" cy="959040"/>
          </a:xfrm>
        </p:grpSpPr>
        <p:sp>
          <p:nvSpPr>
            <p:cNvPr id="393" name="Text Box 3"/>
            <p:cNvSpPr/>
            <p:nvPr/>
          </p:nvSpPr>
          <p:spPr>
            <a:xfrm>
              <a:off x="5437080" y="5490360"/>
              <a:ext cx="33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 marL="3556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Rockwell"/>
                  <a:ea typeface="Arial"/>
                </a:rPr>
                <a:t>3.201 – 2.150</a:t>
              </a:r>
              <a:r>
                <a:rPr b="1" lang="en-US" sz="2000" spc="-1" strike="noStrike">
                  <a:solidFill>
                    <a:srgbClr val="ff0000"/>
                  </a:solidFill>
                  <a:latin typeface="Rockwell"/>
                  <a:ea typeface="Arial"/>
                </a:rPr>
                <a:t>  =  28.915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6200000">
              <a:off x="6460920" y="5231880"/>
              <a:ext cx="215640" cy="15112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3"/>
            <p:cNvSpPr/>
            <p:nvPr/>
          </p:nvSpPr>
          <p:spPr>
            <a:xfrm>
              <a:off x="5680080" y="6050520"/>
              <a:ext cx="13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 marL="3556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Rockwell"/>
                  <a:ea typeface="Arial"/>
                </a:rPr>
                <a:t>+ 1.051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3"/>
          <p:cNvSpPr/>
          <p:nvPr/>
        </p:nvSpPr>
        <p:spPr>
          <a:xfrm>
            <a:off x="611280" y="29361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Rockwell"/>
                <a:ea typeface="Arial"/>
              </a:rPr>
              <a:t>Grazie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19"/>
          <p:cNvSpPr/>
          <p:nvPr/>
        </p:nvSpPr>
        <p:spPr>
          <a:xfrm>
            <a:off x="4343400" y="228600"/>
            <a:ext cx="4419720" cy="4856040"/>
          </a:xfrm>
          <a:prstGeom prst="wedgeRoundRectCallout">
            <a:avLst>
              <a:gd name="adj1" fmla="val -83296"/>
              <a:gd name="adj2" fmla="val 348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475160" y="404640"/>
            <a:ext cx="413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ll’Istat raccogliamo le informazioni attraverso: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1" name="Picture 8" descr="Logo a colori"/>
          <p:cNvPicPr/>
          <p:nvPr/>
        </p:nvPicPr>
        <p:blipFill>
          <a:blip r:embed="rId2"/>
          <a:stretch/>
        </p:blipFill>
        <p:spPr>
          <a:xfrm>
            <a:off x="333360" y="404640"/>
            <a:ext cx="3446640" cy="10083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356000" y="26067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Dati raccolti da altri Uffic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33200" y="3367080"/>
            <a:ext cx="35989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3"/>
          <p:cNvSpPr/>
          <p:nvPr/>
        </p:nvSpPr>
        <p:spPr>
          <a:xfrm>
            <a:off x="4267080" y="228600"/>
            <a:ext cx="4496040" cy="2209680"/>
          </a:xfrm>
          <a:prstGeom prst="wedgeRoundRectCallout">
            <a:avLst>
              <a:gd name="adj1" fmla="val -84324"/>
              <a:gd name="adj2" fmla="val 8347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529160" y="423720"/>
            <a:ext cx="395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Ad esempio, possiamo fare un’indagine usando i dati che ci vengono forniti dai Comuni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6" name="Nuvola 4"/>
          <p:cNvSpPr/>
          <p:nvPr/>
        </p:nvSpPr>
        <p:spPr>
          <a:xfrm>
            <a:off x="4356000" y="4797360"/>
            <a:ext cx="3816360" cy="1871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Nascite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519280" cy="18493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88" name="Picture 8" descr="http://www.perkspot.com/wp-content/uploads/2011/08/left_bg_01.png"/>
          <p:cNvPicPr/>
          <p:nvPr/>
        </p:nvPicPr>
        <p:blipFill>
          <a:blip r:embed="rId3"/>
          <a:stretch/>
        </p:blipFill>
        <p:spPr>
          <a:xfrm>
            <a:off x="57240" y="3178080"/>
            <a:ext cx="4092480" cy="3424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Logo a colori"/>
          <p:cNvPicPr/>
          <p:nvPr/>
        </p:nvPicPr>
        <p:blipFill>
          <a:blip r:embed="rId4"/>
          <a:stretch/>
        </p:blipFill>
        <p:spPr>
          <a:xfrm>
            <a:off x="600120" y="604800"/>
            <a:ext cx="2158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8" descr="Logo a colori"/>
          <p:cNvPicPr/>
          <p:nvPr/>
        </p:nvPicPr>
        <p:blipFill>
          <a:blip r:embed="rId2"/>
          <a:stretch/>
        </p:blipFill>
        <p:spPr>
          <a:xfrm>
            <a:off x="333360" y="404640"/>
            <a:ext cx="3446640" cy="1008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4475160" y="404640"/>
            <a:ext cx="413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ll’Istat raccogliamo le informazioni attraverso: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356000" y="26067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Dati raccolti da altri Uffic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4356000" y="26067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Dati raccolti da altri Uffic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4356000" y="3141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Rockwell"/>
              </a:rPr>
              <a:t>Indagini campionari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33200" y="3367080"/>
            <a:ext cx="3598920" cy="33685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9"/>
          <p:cNvSpPr/>
          <p:nvPr/>
        </p:nvSpPr>
        <p:spPr>
          <a:xfrm>
            <a:off x="4343400" y="228600"/>
            <a:ext cx="4419720" cy="4856040"/>
          </a:xfrm>
          <a:prstGeom prst="wedgeRoundRectCallout">
            <a:avLst>
              <a:gd name="adj1" fmla="val -83296"/>
              <a:gd name="adj2" fmla="val 348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3"/>
          <p:cNvSpPr/>
          <p:nvPr/>
        </p:nvSpPr>
        <p:spPr>
          <a:xfrm>
            <a:off x="4267080" y="228600"/>
            <a:ext cx="4496040" cy="2209680"/>
          </a:xfrm>
          <a:prstGeom prst="wedgeRoundRectCallout">
            <a:avLst>
              <a:gd name="adj1" fmla="val -88134"/>
              <a:gd name="adj2" fmla="val 8261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643280" y="18900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 le indagini campionarie soltanto una piccola parte della popolazione risponde alle nostre domande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9" name="Picture 8" descr="http://www.perkspot.com/wp-content/uploads/2011/08/left_bg_01.png"/>
          <p:cNvPicPr/>
          <p:nvPr/>
        </p:nvPicPr>
        <p:blipFill>
          <a:blip r:embed="rId2"/>
          <a:stretch/>
        </p:blipFill>
        <p:spPr>
          <a:xfrm>
            <a:off x="57240" y="3178080"/>
            <a:ext cx="4092480" cy="342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http://www.imcpchiapanecos.org.mx/wp-content/uploads/2011/09/documentos.jpg"/>
          <p:cNvPicPr/>
          <p:nvPr/>
        </p:nvPicPr>
        <p:blipFill>
          <a:blip r:embed="rId3"/>
          <a:srcRect l="0" t="0" r="0" b="2847"/>
          <a:stretch/>
        </p:blipFill>
        <p:spPr>
          <a:xfrm>
            <a:off x="5913360" y="3541680"/>
            <a:ext cx="2158920" cy="21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Logo a colori"/>
          <p:cNvPicPr/>
          <p:nvPr/>
        </p:nvPicPr>
        <p:blipFill>
          <a:blip r:embed="rId4"/>
          <a:stretch/>
        </p:blipFill>
        <p:spPr>
          <a:xfrm>
            <a:off x="600120" y="604800"/>
            <a:ext cx="2158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8" descr="Logo a colori"/>
          <p:cNvPicPr/>
          <p:nvPr/>
        </p:nvPicPr>
        <p:blipFill>
          <a:blip r:embed="rId2"/>
          <a:stretch/>
        </p:blipFill>
        <p:spPr>
          <a:xfrm>
            <a:off x="333360" y="404640"/>
            <a:ext cx="3446640" cy="1008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356000" y="260676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Dati raccolti da altri Uffic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Rockwell"/>
              </a:rPr>
              <a:t>Indagini campionari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475160" y="404640"/>
            <a:ext cx="413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ll’Istat raccogliamo le informazioni attraverso: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33200" y="3367080"/>
            <a:ext cx="3598920" cy="3368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4356000" y="36925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Rockwell"/>
              </a:rPr>
              <a:t>Censimenti</a:t>
            </a: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4343400" y="228600"/>
            <a:ext cx="4419720" cy="4856040"/>
          </a:xfrm>
          <a:prstGeom prst="wedgeRoundRectCallout">
            <a:avLst>
              <a:gd name="adj1" fmla="val -83296"/>
              <a:gd name="adj2" fmla="val 348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7"/>
          <p:cNvSpPr/>
          <p:nvPr/>
        </p:nvSpPr>
        <p:spPr>
          <a:xfrm>
            <a:off x="4495680" y="304920"/>
            <a:ext cx="4343400" cy="2133360"/>
          </a:xfrm>
          <a:prstGeom prst="wedgeRoundRectCallout">
            <a:avLst>
              <a:gd name="adj1" fmla="val -75111"/>
              <a:gd name="adj2" fmla="val 767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9" name="Object 10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4251600" cy="45702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8"/>
          <p:cNvSpPr/>
          <p:nvPr/>
        </p:nvSpPr>
        <p:spPr>
          <a:xfrm>
            <a:off x="5796000" y="3645000"/>
            <a:ext cx="2808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Il Censimento è un’indagine: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universale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periodica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5076720" y="40464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on il Censimento, invece, 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tti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rispondono alle nostre domande !!!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2" name="Picture 8" descr="Logo a colori"/>
          <p:cNvPicPr/>
          <p:nvPr/>
        </p:nvPicPr>
        <p:blipFill>
          <a:blip r:embed="rId3"/>
          <a:stretch/>
        </p:blipFill>
        <p:spPr>
          <a:xfrm>
            <a:off x="600120" y="604800"/>
            <a:ext cx="2158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3"/>
          <p:cNvSpPr/>
          <p:nvPr/>
        </p:nvSpPr>
        <p:spPr>
          <a:xfrm>
            <a:off x="4267080" y="228600"/>
            <a:ext cx="4496040" cy="1976400"/>
          </a:xfrm>
          <a:prstGeom prst="wedgeRoundRectCallout">
            <a:avLst>
              <a:gd name="adj1" fmla="val -85273"/>
              <a:gd name="adj2" fmla="val 100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4730760" y="476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Universa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hé raccogliamo le informazioni da tutti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4710240" y="3751200"/>
            <a:ext cx="4195800" cy="2192400"/>
          </a:xfrm>
          <a:prstGeom prst="wedgeRoundRectCallout">
            <a:avLst>
              <a:gd name="adj1" fmla="val -71527"/>
              <a:gd name="adj2" fmla="val -27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935600" y="394164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eriod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hé viene ripetuta ad intervalli regolari di tempo (ogni 10 anni)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7" name="Picture 8" descr="http://www.perkspot.com/wp-content/uploads/2011/08/left_bg_01.png"/>
          <p:cNvPicPr/>
          <p:nvPr/>
        </p:nvPicPr>
        <p:blipFill>
          <a:blip r:embed="rId2"/>
          <a:stretch/>
        </p:blipFill>
        <p:spPr>
          <a:xfrm>
            <a:off x="57240" y="3178080"/>
            <a:ext cx="4092480" cy="342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Logo a colori"/>
          <p:cNvPicPr/>
          <p:nvPr/>
        </p:nvPicPr>
        <p:blipFill>
          <a:blip r:embed="rId3"/>
          <a:stretch/>
        </p:blipFill>
        <p:spPr>
          <a:xfrm>
            <a:off x="600120" y="604800"/>
            <a:ext cx="2158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6"/>
          <p:cNvSpPr/>
          <p:nvPr/>
        </p:nvSpPr>
        <p:spPr>
          <a:xfrm>
            <a:off x="4356000" y="126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Rockwell"/>
              </a:rPr>
              <a:t>Censimento della Popolazione e delle Abitazion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187280" y="3500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"/>
              </a:rPr>
              <a:t>Censimento dell’Agricoltur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1920" y="115920"/>
            <a:ext cx="90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</a:rPr>
              <a:t>… </a:t>
            </a:r>
            <a:r>
              <a:rPr b="1" lang="en-US" sz="4000" spc="-1" strike="noStrike">
                <a:solidFill>
                  <a:srgbClr val="ff0000"/>
                </a:solidFill>
                <a:latin typeface="Rockwell"/>
              </a:rPr>
              <a:t>i Censimenti sono tre: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928800" y="4941720"/>
            <a:ext cx="2706480" cy="1800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264280" y="3068640"/>
            <a:ext cx="2403360" cy="1798560"/>
          </a:xfrm>
          <a:prstGeom prst="rect">
            <a:avLst/>
          </a:prstGeom>
          <a:ln w="15840">
            <a:solidFill>
              <a:srgbClr val="0080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1030320" y="1054080"/>
            <a:ext cx="2389320" cy="1798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325" name="Text Box 7"/>
          <p:cNvSpPr/>
          <p:nvPr/>
        </p:nvSpPr>
        <p:spPr>
          <a:xfrm>
            <a:off x="3984480" y="5229360"/>
            <a:ext cx="44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Rockwell"/>
              </a:rPr>
              <a:t>Censimento dell’Industria, delle Istituzioni Pubbliche e delle Istituzioni Non Profit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8:04:12Z</dcterms:created>
  <dc:creator>Silvia</dc:creator>
  <dc:description/>
  <dc:language>en-US</dc:language>
  <cp:lastModifiedBy>istat</cp:lastModifiedBy>
  <dcterms:modified xsi:type="dcterms:W3CDTF">2014-03-03T14:08:29Z</dcterms:modified>
  <cp:revision>133</cp:revision>
  <dc:subject/>
  <dc:title>TABELLE DI FREQUENZE</dc:title>
</cp:coreProperties>
</file>